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7F89-501A-4515-9CE3-A760A9840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060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26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726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3B51-8ECF-42D2-844A-45791F33A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060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58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00520" y="1142640"/>
            <a:ext cx="4258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58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00520" y="3889080"/>
            <a:ext cx="4258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D577-CF57-4C6B-B7E4-6E5A21AFF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060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809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79160" y="1142640"/>
            <a:ext cx="2809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30080" y="1142640"/>
            <a:ext cx="2809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809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79160" y="3889080"/>
            <a:ext cx="2809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30080" y="3889080"/>
            <a:ext cx="2809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ED53-4DCC-4C5C-9C50-B7AA4F987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00D41-C981-4F9C-8AD5-8945AED85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060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726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B5C09-B716-4820-8E10-D25FBC489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060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26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AA18A-319E-4E4D-B9CB-5F65E011D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060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58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00520" y="1142640"/>
            <a:ext cx="4258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B9953-0D38-4CA7-B27C-F0B465B2E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060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3F200-8A84-44E8-BDB6-B4598F8FF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29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1BC4E-C6BF-4392-A5CC-CE732E4AC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060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58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00520" y="1142640"/>
            <a:ext cx="4258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58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1FEA8-2A1B-4EFD-904D-F93F2A2A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060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726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7094-3A51-4278-8960-4941DEC77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060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58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0520" y="1142640"/>
            <a:ext cx="4258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700520" y="3889080"/>
            <a:ext cx="4258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4946C-1F26-43E1-AB1A-9941AB90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060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58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00520" y="1142640"/>
            <a:ext cx="4258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726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9AB2A-8998-4BBB-8438-F35892906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060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26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726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8685C-1F6E-4BC6-A8AD-DC3091036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060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58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00520" y="1142640"/>
            <a:ext cx="4258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58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700520" y="3889080"/>
            <a:ext cx="4258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3479B-07AE-4460-A7AB-9F221FCE2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060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809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179160" y="1142640"/>
            <a:ext cx="2809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30080" y="1142640"/>
            <a:ext cx="2809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809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179160" y="3889080"/>
            <a:ext cx="2809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30080" y="3889080"/>
            <a:ext cx="2809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A17D6-31E4-42DC-850B-635688E4A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060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26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00A4-FDF5-486E-AC35-7BACC1819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060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58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0520" y="1142640"/>
            <a:ext cx="4258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405B-FB8B-42A6-BA60-3C1680B60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060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6B46-C092-4212-8E26-EC0BD8D2D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29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A407-EA13-4730-979B-8FEDF6259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060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58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0520" y="1142640"/>
            <a:ext cx="4258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58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BAE0-4934-4963-9B7D-46B73DD6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060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58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0520" y="1142640"/>
            <a:ext cx="4258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00520" y="3889080"/>
            <a:ext cx="4258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E08D-EC0A-4B76-9834-98960CDE7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060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58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0520" y="1142640"/>
            <a:ext cx="4258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726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A06E-0CC3-4D9F-8631-5A7EBD6E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26028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260280"/>
            <a:ext cx="328320" cy="47484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68256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682560"/>
            <a:ext cx="368280" cy="4748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60948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152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942840"/>
            <a:ext cx="8226360" cy="3204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726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400440"/>
            <a:ext cx="190512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400440"/>
            <a:ext cx="28954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400440"/>
            <a:ext cx="19047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9B87C-D9F3-4A50-B314-219BB875DF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726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F9712-B77A-4820-9B87-99DB157A3D4C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KỸ THUẬT PHẦN MỀM</a:t>
            </a:r>
            <a:endParaRPr b="1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ương IV: SQL &amp; MS. ACCES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1981440" y="338040"/>
            <a:ext cx="60314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ƯỜNG ĐẠI HỌC BÁCH KHOA HÀ NỘ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Khoa Điện tử Viễn Thông – Bộ môn Điện tử Tin họ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4.1 SQL</a:t>
            </a: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26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Các lệnh SQ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Lệnh “CREATE TABLE” – Tạo bản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í dụ CSDL gồm 3 bảng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1295280" y="3048120"/>
            <a:ext cx="670572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228600" y="1142640"/>
            <a:ext cx="8726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ạo bảng CAR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ên bảng: CA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ác cột: Tên + kiểu dữ liệu (kích thước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4.1 SQL</a:t>
            </a: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1143000" y="1905120"/>
            <a:ext cx="6629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REATE TABLE CARS (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D_NUM      INTEGER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D_NAME    CHAR(10)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TYLE            CHAR(6)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YEAR              INTEGER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4.1 SQL</a:t>
            </a: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26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ú pháp lệnh CREATE TABL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838080" y="1752480"/>
            <a:ext cx="800100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CREATE TABLE &lt;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TableName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&gt; (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Column1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DataType [(width [,dec.])] [NOT NULL | UNIQUE |INDEX]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Column2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DataType [(width [,dec.])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[NOT NULL | UNIQUE |INDEX]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……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Columnn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DataType [ (width [,dec.])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[NOT NULL | UNIQUE |INDEX]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4.1 SQL</a:t>
            </a: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26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ệnh “CREATE TABLE”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ừ khóa: CREATE TABL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ên bảng: &lt;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ableNam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nh sách cột: &lt;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lumn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gt;, &lt;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ataType(width,dec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ảng phải chứa ít nhất 1 cộ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ên cột là duy nhất trong mỗi bản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ứ tự cột sẽ là thứ tự mặc định khi truy vấ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ảng sau khi tạo là bảng rỗn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4.1 SQL</a:t>
            </a: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26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iểu dữ liệu ANS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CHA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UMERI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CIMA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MALLI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LO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iểu riêng của DBM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ne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ti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olea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4.1 SQL</a:t>
            </a: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26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ính chất cột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IQU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Đảm bảo giá trị của cột là duy nhất trên tất cả các hàng dữ liệu của bả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 NUL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hông cho phép giá trị của cột rỗng tại bất kỳ hàng nà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ường dùng với khóa chín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CK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4.1 SQL</a:t>
            </a: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26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IMARY KE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REATE TABLE &lt;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ableNam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&gt; (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IMARY KEY (columnname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EIGN KE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REATE TABLE &lt;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ableNam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gt; (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REIGN KEY (columnname) REFERENCES &lt;RefTableName&gt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AUL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REATE TABLE &lt;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ableNam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&gt; (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columnname&gt; &lt;datatype(width,dec)&gt; [DEFAULT &lt;value&gt;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4.1 SQL</a:t>
            </a: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26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ương tự: SPECS, STOCK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447840" y="1886040"/>
            <a:ext cx="68832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REATE TABLE SPECS (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MD_NUM      INTEGER 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MPG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INTERGER 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RADIO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HAR(3) 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ENGINE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HAR(7) 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REATE TABLE STOCK (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MD_NUM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INTEGER 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QTY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INTEGER 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PRICE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INTEGER 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4.1 SQL</a:t>
            </a: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26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ay đổi cấu trúc bảng: ALTER TABL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êm cột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TER TABLE 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ableNam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 (ColumnName Datatype(width,dec)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BEFORE &lt;Colname&gt;]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ớt cột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TER TABLE 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ableNam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ROP (ColumnName ,… 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4.1 SQL</a:t>
            </a: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26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óa bảng khỏi CSDL: “DROP TABLE”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ú pháp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ROP TABLE 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ableNam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í  dụ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ROP TABLE CARS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ROP TABLE SPECS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hương IV. SQL &amp; MS. Access</a:t>
            </a:r>
            <a:endParaRPr b="1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26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1 SQ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Giới thiệu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Phân loại SQ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Các lệnh SQ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Lệnh tạo bả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 Lệnh thêm dữ liệ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) Lệnh thay đổi dữ liệ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2 MS. Acces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4.1 SQL</a:t>
            </a: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26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. Lệnh “INSERT INTO”: Thêm dữ liệu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762120" y="1681200"/>
            <a:ext cx="768168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4.1 SQL</a:t>
            </a: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990720" y="1736640"/>
            <a:ext cx="7543800" cy="701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"/>
          <p:cNvPicPr/>
          <p:nvPr/>
        </p:nvPicPr>
        <p:blipFill>
          <a:blip r:embed="rId2"/>
          <a:stretch/>
        </p:blipFill>
        <p:spPr>
          <a:xfrm>
            <a:off x="1066680" y="2590920"/>
            <a:ext cx="7543800" cy="35370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6"/>
          <p:cNvSpPr/>
          <p:nvPr/>
        </p:nvSpPr>
        <p:spPr>
          <a:xfrm>
            <a:off x="2108880" y="981000"/>
            <a:ext cx="428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êm DL vào bảng: CA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4.1 SQL</a:t>
            </a: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26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ú pháp lệnh INSER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ên bảng cần thêm dữ liệu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ên cột chứa dữ liệu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iá trị dữ liệu cần thêm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ú ý: kiểu dữ liệu của các cột phải đún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1143000" y="1827360"/>
            <a:ext cx="7238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INSERT INTO TABLE &lt;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TableName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Field1, Field2, …., Fieldn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)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Value1, Value2, …, Valuen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4.1 SQL</a:t>
            </a: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26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ú pháp rút gọ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ỏ qua phần khai báo tên trường nếu thứ tự và số lượng trường giống cấu trúc bảng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1143000" y="182736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INSERT INTO TABLE &lt;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TableName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VALUES (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Value1, Value2, …, Valuen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4.1 SQL</a:t>
            </a: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26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êm thông tin vào bảng SPEC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762012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4.1 SQL</a:t>
            </a: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26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êm thông tin vào bảng STOCK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990720" y="2039760"/>
            <a:ext cx="678168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4.1 SQL</a:t>
            </a: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26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. Lệnh “SELECT”: Lấy thông tin từ bả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í dụ: lấy thông tin từ bảng CAR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ết quả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2133720" y="2362320"/>
            <a:ext cx="5333760" cy="8492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"/>
          <p:cNvPicPr/>
          <p:nvPr/>
        </p:nvPicPr>
        <p:blipFill>
          <a:blip r:embed="rId2"/>
          <a:stretch/>
        </p:blipFill>
        <p:spPr>
          <a:xfrm>
            <a:off x="2057400" y="3809880"/>
            <a:ext cx="5257800" cy="28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4.1 SQL</a:t>
            </a: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26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à câu lệnh phức tạp nhất trong các lệnh SQ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ú pháp lệnh SELEC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80880" y="2603520"/>
            <a:ext cx="8382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SELECT [DISTINCT] 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Field1, Field2, …, Field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FROM &lt;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TableNames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&gt;,[&lt;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TableNames2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&gt;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[WHERE &lt;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Expression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&gt;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[GROUP BY g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field1, gfield2,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[HAVING &lt;g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Expression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&gt;] 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[ORDER BY 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oField1, oField2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[DESC]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4.1 SQL</a:t>
            </a: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26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ó thể lấy DL từ nhiều bảng bằng cách đặt danh sách bảng sau FROM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ết quả: tích đề các của giữa các bản ghi của các bảng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ác định điều kiện WHER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4.1 SQL</a:t>
            </a: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26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ấy ra tất cả thông tin (giá trị của mọi cột) của bảng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LECT * FROM …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ứ tự cột dữ liệu trả về giống thứ tự khi tạo bản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nh sách cột sau từ khóa SELECT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ên cột của bản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iểu thức tính toá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ằng số (chuỗi, số,…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ó thể đặt tên “bí danh” (alias) cho cột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4.1 SQL</a:t>
            </a: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26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Giới thiệu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QL-Structure Query Languag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gôn ngữ truy xuất CSDL quan hệ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à phương tiện được sử dụng để trao đổi với DBM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âu lệnh giống ngôn ngữ tiếng Anh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dễ đọc, dễ hiểu hơn tiếng Anh)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4.1 SQL</a:t>
            </a: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26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LECT DISTINC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ại bỏ các hàng dữ liệu giống nhau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í dụ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LECT DISTINCT ma_lop FROM SinhVie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Được dùng để kiểm tra sự xuất hiện của các giá trị của cột trong bảng mà không quan tâm đến việc giá trị đó xuất hiện bao nhiêu lần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4.1 SQL</a:t>
            </a: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26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ột tính toán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LECT mahs, ((D1T*2+D15+DM)/4*2+THI)/3 FROM Die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&gt; Trả về danh sách mã học sinh và điểm trung bình học kỳ của từng học sin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4.1 SQL</a:t>
            </a: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26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ọc kết quả trả về: sử dụng mệnh đề WHER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u WHERE phải là một biểu thức logic mà kết quả phải là một trong 2 giá trị: true/false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ết hợp các điều kiện: AND, OR, (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í dụ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LECT * FROM SinhVien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RE TenSV=‘Nguyễn Văn A’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&gt; Lấy ra thông tin của tất cả SV có tên là ‘Nguyễn Văn A’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4.1 SQL</a:t>
            </a: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26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ác toán tử kiểm tra giá trị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, &gt;=, &lt;=, &lt;&gt;,  &gt;,  &lt;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iểm tra khoảng giá trị: BETWEE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LECT * FROM DIEM WHERE diemthi BETWEEN 5 AND 9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LECT * FROM HocSinh WHERE DaoDuc BETWEEN ‘A’ AND ‘C’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LECT * FROM HocSinh WHERE Ten BETWEEN ‘N’ AND ‘T’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iểu thức tương đương: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lname BETWEEN minvalue AND maxval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lname&gt;=minvalue AND colname&lt;=maxval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4.1 SQL</a:t>
            </a: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26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iểm tra là phần tử của tập hợp: I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LECT * FROM Diem WHERE DiemThi IN (2,3,4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LECT * FROM Diem WHERE mahs IN (‘A1’,’B1’,’C1’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iểu thức tương đương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lname IN (value1, value2, …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lname = value1 OR Colname = Value2 ….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4.1 SQL</a:t>
            </a: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26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án tử so sánh theo mẫu: LIK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KE được dùng để kiểm tra một cột kiểu chuỗi kỹ tự (CHAR, VCHAR) có giá trị theo một mẫu xác định nào đó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ác ký tự đại diện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’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đại diện cho 1 và đúng 1 ký tự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%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đại diện cho một nhóm ký tự bất kỳ (kể cả chuỗi rỗng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4.1 SQL</a:t>
            </a: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26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í dụ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LECT * FROM SinhVien WHERE malop LIKE ‘DTVT_’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LECT * FROM SinhVien WHERE malop LIKE ‘DTVT%’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LECT * FROM SinhVien WHERE malop LIKE ‘__VT%’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LECT * FROM SinhVien WHERE malop LIKE ‘%’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SCAPE: Dùng để coi các ký tự đại diện _ % là giá trị thật sự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LECT * FROM Subjects WHERE subname LIKE ‘$_VXL$%’ ESCAPE ‘$’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&gt; Trả ra danh sách môn học có giá trị cột subname là ‘_VXL%’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4.1 SQL</a:t>
            </a: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17600" y="1142640"/>
            <a:ext cx="8726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ắp xếp kết quả trả về: ORDER B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LECT * FROM SinhVien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DER BY MaLop, TenSV ASC, NgaySinh DES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&gt; Kết quả trả về là danh sách sinh viên được sắp xếp theo mã lớp tăng dần, tên sinh viên tăng dần và ngày sinh giảm dần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4.1 SQL</a:t>
            </a: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26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ác hàm tổng hợp (ANSI)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UNT(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M(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VG(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N(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X(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4.1 SQL</a:t>
            </a: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26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NT(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Đếm số lần xuất hiện của giá trị hoặc số dòng dữ liệu của bảng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í dụ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LECT COUNT(Dept_no) FROM Staff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Đếm số lượng nhân viên đã được gán giá trị Dept_n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LECT COUNT(DISTINCT Dept_no) FROM Staff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Đếm số lượng mã phòng sử dụ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LECT COUNT(*) FROM Staff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Đếm số nhân viên (số bản ghi hiện có trong bảng Staff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4.1 SQL</a:t>
            </a: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26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à một ngôn ngữ phi thủ tục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&gt;NSD không cần phải quan tâm đến việc dữ liệu được lưu trữ thật sự như thế nào, ở đâu và có thể lấy ra bằng cách nào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 phép truy vấn và khai thác dữ liệu một cách linh hoạt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4.1 SQL</a:t>
            </a: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26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M(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ính tổng giá trị của cộ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iểu dữ liệu của cột phải là kiểu số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Đối số có thể là một biểu thức mà kết quả trả về là kiểu số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í dụ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LECT SUM(pay) FROM Salar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ính tổng giá trị cột pay trong bảng Salar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LECT SUM(pay+1500) FROM Salar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ính tổng giá trị cột pay+1500 của bảng Salar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4.1 SQL</a:t>
            </a: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26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VG(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ính trung bình cộng giá trị của cộ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iểu dữ liệu của cột phải là kiểu số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í dụ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LECT AVG(pay) FROM Salar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ính trung bình cộng giá trị cột pay trong bảng Salar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4.1 SQL</a:t>
            </a: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26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N(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ấy giá trị nhỏ nhất trong các giá trị của cộ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Đối số có thể là một biểu thức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í dụ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LECT MIN(mark) FROM Mark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ìm giá trị điểm nhỏ nhất trong bảng Mark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4.1 SQL</a:t>
            </a: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26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X(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ấy giá trị lớn nhất trong các giá trị của cộ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Đối số có thể là một biểu thức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í dụ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LECT MAX(mark) FROM Mark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ìm giá trị điểm lớn nhất trong bảng Mark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4.1 SQL</a:t>
            </a: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26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hóm kết quả: GROUP B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ác hàm tổng hợp ở trên tính toán dựa trên dữ liệu của các cột trong toàn bộ bảng (grant-totals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ết hợp các hàm tổng hợp với mệnh đề GROUP BY để tính toán kết quả theo nhóm (sub-totals)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í dụ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LECT MaSP, SUM(ThanhTien)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OM HoaDon GROUP BY MaS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ả ra danh sách mã sản phẩm cùng tổng số tiền bán được của mỗi sản phẩm từ bảng HoaD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LECT MaSV, AVG(Diem)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OM DiemThi GROUP BY MaSV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ả ra danh sách mã sinh viên cùng với điểm trung bình cộng của các môn học mà SV đã thi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4.1 SQL</a:t>
            </a: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26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ọc nhóm: HAV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ùng với GROUP BY và các hàm tổng hợ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ỉ lấy ra nhóm thỏa mãn điều kiện nào đó của kết quả hàm tổng hợ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í dụ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LECT MaSV, AVG(Diem) FROM DiemThi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ROUP BY MaSV HAVING  AVG(Diem)&gt;=5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&gt; Lấy  ra danh sách sinh viên và điểm trung bình của những sinh viên có điểm trung bình &gt;=5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4.1 SQL</a:t>
            </a: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26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ên kết bảng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ấy dữ liệu từ nhiều bản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ác định liên kết bằng điều kiện WHER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í dụ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LECT SV.TenSV, Lop.TenLop FROM SV, Lo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rả ra tích đề các của 2 bản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LECT SV.TenSV, Lop.TenLop FROM SV, Lop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ERE SV.MaLop = Lop.MaLo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rả ra danh sách tên SV và tên lớp SV đang theo họ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4.1 SQL</a:t>
            </a: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26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ên kết bảng: INNER JOI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LECT SV.TenSV, Lop.TenLop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OM SV INNER JOIN Lop ON SV.MaLop = Lop.MaLo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4.1 SQL</a:t>
            </a: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26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uy vấn lồng nhau: nested query; sub quer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í dụ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LECT * FROM SanPham WHERE MaSP IN (SELECT MaSP FROM HoaDon Where MaNV=‘NV1’ AND NgayHD=’25-10-2006’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ấy ra thông tin về sản phẩm do nhân viên có mã ‘NV1’ bán vào ngày ’25-10-2006’. 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Giả sử trong ngày hôm đó nhân viên ‘NV1’ chỉ bán được 1 sản phẩ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LECT * FROM SanPham WHERE MaSP IN (SELECT MaSP FROM HoaDon Where NgayHD=’25-10-2006’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ấy ra danh sách và thông tin về sản phẩm được bán vào ngày ’25-10-2006’ bởi tất cả nhân viên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4.1 SQL</a:t>
            </a: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26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LECT * FROM Depts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RE DeptCode IN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SELECT DISTINCT DeptCode FROM Staff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ấy ra thông tin chi tiết của các phòng có nhân viên làm việ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4.1 SQL</a:t>
            </a: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26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 cách thực hiện câu lệnh SQL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ương tác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òng lện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QL nhúng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4.1 SQL</a:t>
            </a: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17600" y="1294920"/>
            <a:ext cx="8726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ối các kết quả của các câu truy vấn: UN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ác câu truy vấn phải trả về kết quả có cùng cấu trúc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ết quả cuối cùng là hợp của tất cả kết quả của các câu truy vấ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ại bỏ các dòng dữ liệu giống nhau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ác câu truy vấn không được có ORDER B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ác câu truy vấn không được dùng các hàm tổng hợ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4.1 SQL</a:t>
            </a: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26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í dụ sử dụng UN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4" descr=""/>
          <p:cNvPicPr/>
          <p:nvPr/>
        </p:nvPicPr>
        <p:blipFill>
          <a:blip r:embed="rId1"/>
          <a:stretch/>
        </p:blipFill>
        <p:spPr>
          <a:xfrm>
            <a:off x="866880" y="1905120"/>
            <a:ext cx="74120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4.1 SQL</a:t>
            </a: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26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. Lệnh “UPDATE” và “DELETE”: Thay đổi giá trị dữ liệu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ú ý: Wher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icture 4" descr=""/>
          <p:cNvPicPr/>
          <p:nvPr/>
        </p:nvPicPr>
        <p:blipFill>
          <a:blip r:embed="rId1"/>
          <a:stretch/>
        </p:blipFill>
        <p:spPr>
          <a:xfrm>
            <a:off x="1600200" y="2527200"/>
            <a:ext cx="3962520" cy="10540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"/>
          <p:cNvPicPr/>
          <p:nvPr/>
        </p:nvPicPr>
        <p:blipFill>
          <a:blip r:embed="rId2"/>
          <a:stretch/>
        </p:blipFill>
        <p:spPr>
          <a:xfrm>
            <a:off x="1600200" y="3886200"/>
            <a:ext cx="6553080" cy="6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4.1 SQL</a:t>
            </a: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26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ú pháp lệnh UPDAT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hông có WHERE =&gt; All records affected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2046960" y="1895400"/>
            <a:ext cx="38278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UPDATE &lt;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TableName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SET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Field1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= 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Value1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Field2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= 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Value2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Fieldn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= 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Valu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WHERE &lt;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Expression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4.1 SQL</a:t>
            </a: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26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ú pháp lệnh DELET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hông có WHERE =&gt; All records affected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2047320" y="1895400"/>
            <a:ext cx="5217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DELETE [FROM] &lt;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TableName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WHERE &lt;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Expression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4.1 SQL</a:t>
            </a: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26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. Views (Virtual tables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ội dung lấy từ các bảng cơ bả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ỉ lưu trữ cấu trúc trên đĩa (không thực sự lưu trữ dữ liệu nào cả)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hai thác DL từ View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Picture 4" descr=""/>
          <p:cNvPicPr/>
          <p:nvPr/>
        </p:nvPicPr>
        <p:blipFill>
          <a:blip r:embed="rId1"/>
          <a:stretch/>
        </p:blipFill>
        <p:spPr>
          <a:xfrm>
            <a:off x="1447920" y="3200400"/>
            <a:ext cx="6019560" cy="10112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"/>
          <p:cNvPicPr/>
          <p:nvPr/>
        </p:nvPicPr>
        <p:blipFill>
          <a:blip r:embed="rId2"/>
          <a:stretch/>
        </p:blipFill>
        <p:spPr>
          <a:xfrm>
            <a:off x="1447920" y="4724280"/>
            <a:ext cx="2971800" cy="9511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"/>
          <p:cNvPicPr/>
          <p:nvPr/>
        </p:nvPicPr>
        <p:blipFill>
          <a:blip r:embed="rId3"/>
          <a:stretch/>
        </p:blipFill>
        <p:spPr>
          <a:xfrm>
            <a:off x="5638680" y="4343400"/>
            <a:ext cx="274320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4.1 SQL</a:t>
            </a: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26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* Lịch sử SQ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BM’lab, San Jose, California – 1970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hát triển một hệ quản trị CSDL quan hệ thực nghiệm mà có thể dần dần tạo ra một sản phẩm thương mại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ột dự án được bắt đầu từ năm 1974 – Hệ thống 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ột ngôn ngữ được gọi là Sequel (Structure English QUEry Language) được chọn là ngôn ngữ CSDL quan hệ cho hệ thống 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quel đã được viết gọn lại thành SQL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4.1 SQL</a:t>
            </a: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26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ệ thống R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iai đoạn 1: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ghiên cứu phát triển một phiên bản cơ bản của các hệ QTCSDL quan hệ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75, Hệ QTCSDL cho 1 người sử dụng dựa trên mô hình quan hệ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79: Kết thúc dự á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81: Phiên bản chính thức đầu tiên của hệ quản trị CSDL quan hệ chính thức xuất hiện trên thị trường như là một sản phẩm thương mại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QL/DS chạy trên môi trường hệ điều hành DOS/VS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83: DB2 ra đời và phát triển nhanh chóng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4.1 SQL</a:t>
            </a: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26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racl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SI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4.1 SQL</a:t>
            </a: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26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Phân loại SQ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DL – Data Definition Languag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àm việc với cấu trúc CSD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ML – Data Manipulation Languag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àm việc với dữ liệu thực sự được lưu trữ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CL – Data Control Languag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rang Nguyen</cp:lastModifiedBy>
  <dcterms:modified xsi:type="dcterms:W3CDTF">2009-12-01T02:52:52Z</dcterms:modified>
  <cp:revision>2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