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CBA-AC6F-4202-AA71-1E6C73BD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82A-B2C3-4033-857F-9B4696E4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98C-7921-4BB3-BE57-1BAE482D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916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916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A42-89C3-4693-8796-A16589DA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7E29-A2A8-46CA-B3EF-AB4C6A9A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6680-2347-4896-A75D-662C572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9306-E578-468D-BC3F-F24F045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C719-E251-44FD-9AA4-BAC3C9EB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F5E6-36D0-4E1A-8DBF-4700011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0D1C-895C-4E80-B54D-F4EA2BDB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6794-0BD8-4AE2-9408-89B04F89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0ED-A517-4E11-A7B1-F310CF82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543E-F172-49CE-A05C-897DF91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7AC-1EDF-4B7A-B8A8-F7CAD27D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B641-69D5-487D-85B8-3852458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0DA-1E8D-45FF-979E-87967E66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7916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7916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30080" y="3889080"/>
            <a:ext cx="2809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3AC-7EC5-4D4D-85E7-F67632FB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3CF-3795-492A-B8BF-7B955380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477-05E2-4E30-99AA-C3124A7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D00-F6FF-499B-A833-5BB1767B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E90-A19F-444F-B693-ECCB9235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ADD-55A5-4409-B963-EAEF459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00520" y="388908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0F2-DAB9-4BAC-8514-66B702C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520" y="1142640"/>
            <a:ext cx="4258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726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F7F-CD4B-49FF-B97C-57F88D0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400440"/>
            <a:ext cx="1905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400440"/>
            <a:ext cx="28954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400440"/>
            <a:ext cx="19047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154-1C43-4AF7-A8DD-62D015D80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619-6A3B-439F-B7B0-8589715E513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KỸ THUẬT PHẦN MỀ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ương III: CƠ SỞ DỮ LIỆ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010960" y="338040"/>
            <a:ext cx="603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ƯỜNG ĐẠI HỌC BÁCH KHOA HÀ NỘ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hoa Điện tử Viễn Thông – Bộ môn Điện tử Tin họ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(S#, STATUS, CITY, P#, QT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thuéc tÝnh ë ®©y cã ý nghÜa th«ng th­ê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TATUS lµ phô thuéc hµm vµo C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á qua thuéc tÝnh SNAM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o¸ chÝnh cña quan hÖ FIRST  (S#, P#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¬ ®å phô thuéc hµm cña quan hÖ FIR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H×nh 3.4. C¸c phô thuéc hµm trong quan hÖ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NhËn xÐ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¸c thuéc tÝnh STATUS vµ CITY lµ kh«ng phô thuéc hµm hoµn toµn vµo kho¸ chÝnh (S#, P#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¸c thuéc tÝnh STATUS vµ CITY lµ kh«ng ®éc lËp víi nha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hÝnh hai ®iÒu kiÖn nµy lµm cho s¬ ®å c¸c phô thuéc hµm cña quan h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IRST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trªn h×nh 3.4 phøc t¹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594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7929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B¶ng d÷ liÖu mÉu cña quan hÖ FIR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83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125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XÐt c¸c dÞ th­êng trong c¸c phÐp to¸n l­u tr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7000" indent="-412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INSERT (chÌ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7000" indent="-412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UPDATE (thay ®æ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7000" indent="-412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DELETE (xã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7040" indent="-4125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Çn chuyÓn sang d¹ng chuÈn tiÕp the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Quan hÖ R ®­îc gäi lµ ë d¹ng chuÈn thø hai (2NF) nÕu vµ chØ nÕu nã ë d¹ng chuÈn thø nhÊt vµ mäi thuéc tÝnh kh«ng kho¸ ®Òu phô thuéc hµm ®Çy ®ñ vµo kho¸ chÝn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Mét thuéc tÝnh ®­îc gäi lµ thuéc tÝnh kh«ng kho¸ nÕu nã kh«ng tham dù vµo thµnh phÇn cña kho¸  chÝnh hoÆc khãa øng c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Phô thuéc hµm ®Çy ®ñ: Cho quan hÖ R vµ hai thuéc tÝnh X, Y n»m trong quan hÖ R. Y lµ phô thuéc hµm ®Çy ®ñ vµo X nÕu vµ chØ nÕu Y phô thuéc hµm vµo X vµ kh«ng phô thuéc hµm vµo bÊt kú mét tËp con nµo cña cña X (X ph¶i lµ thuéc tÝnh ghÐ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ét quan hÖ  ë d¹ng chuÈn thø nhÊt vµ kh«ng ë d¹ng chuÈn thø hai lu«n lu«n cã thÓ chuyÓn thµnh mét tËp t­¬ng ®­¬ng c¸c quan hÖ ë d¹ng chuÈn 2N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ác bước chuyển một quan hệ ở dạng 1NF (chưa là 2NF) sang tập các quan hệ tương đương ở dạng 2N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quan hÖ ban ®Çu, ®èi víi mçi thuéc tÝnh cña kho¸ chÝnh, ta t¹o mét quan hÖ t¸ch biÖ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iÕp tôc t¹o c¸c quan hÖ t¸ch biÖt míi víi tÊt c¶ c¸c kÕt hîp cña c¸c thuéc tÝnh cña kho¸ chÝnh cho ®Õn khi t¹o ®­îc quan hÖ víi toµn bé kho¸ chÝnh gè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hØ ®Þnh thuéc tÝnh hoÆc kÕt hîp c¸c thuéc tÝnh nµy lµm kho¸ chÝnh cho c¸c quan hÖ mí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ong quan hÖ gèc, t×m sù phô thuéc hµm ®Çy ®ñ cña tõng thuéc tÝnh trong c¸c thuéc tÝnh cßn l¹i vµo c¸c kho¸ chÝnh míi t×m ra vµ ®Æt nã vµo quan hÖ t­¬ng øng víi kho¸ chÝnh míi nµ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i ®· xÐt hÕt c¸c thuéc tÝnh cßn l¹i trong quan hÖ gèc th× bá ®i c¸c quan hÖ mµ chØ cã c¸c thuéc tÝnh kho¸ mµ kh«ng cã c¸c thuéc tÝnh kh«ng kho¸ kh¸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811080" y="1781280"/>
            <a:ext cx="75232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.VnTime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32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932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Qu¸ tr×nh thay thÕ c¸c quan hÖ lµ hai chiÒ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Quan hÖ 1NF mµ kh«ng ph¶i lµ 2NF cÇn ph¶i cã kho¸ chÝnh lµ kho¸ ghÐ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Quan hÖ ë 2NF ®· lo¹i bá mét sè dÞ th­êng trong c¸c phÐp to¸n l­u tr÷ so víi 1N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XÐt c¸c dÞ th­êng trong c¸c phÐp to¸n l­u tr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Çn chuyÓn sang d¹ng chuÈn tiÕp the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3. Chuẩn hóa CSDL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« h×nh quan hÖ, chØ cho phÐp c¸c quan hÖ ®· ®­îc chuÈn ho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ét quan hÖ ch­a chuÈn hãa chuyÓn thµnh c¸c quan hÖ ®· ®­îc chuÈn hãa t­¬ng ®­¬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ét quan hÖ mÆc dï ®· ®­îc chuÈn hãa vÉn cßn c¸c thuéc tÝnh kh«ng mong muè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cÇn chuyÓn sang d¹ng chuÈn hãa kh¸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Quan hÖ R ®­îc gäi lµ ë d¹ng chuÈn thø ba (3NF) nÕu vµ chØ nÕu nã ë d¹ng chuÈn thø hai vµ mäi thuéc tÝnh kh«ng kho¸ ®Òu kh«ng phô thuéc hµm b¾c cÇu vµo kho¸ chÝnh th«ng qua c¸c thuéc tÝnh kh«ng kho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Thuéc tÝnh Y gäi lµ phô thuéc hµm b¾c cÇu vµo thuéc tÝnh X th«ng qua thuéc tÝnh Z nÕu thuéc tÝnh Y phô thuéc hµm vµo thuéc tÝnh Z (Z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Y) vµ thuéc tÝnh Z l¹i phô thuéc hµm vµo thuéc tÝnh X (X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Z) (víi ®iÒu kiÖn thuéc tÝnh X kh«ng phô thuéc hµm vµo thuéc tÝnh Z hoÆc Y)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ét quan hÖ ë d¹ng chuÈn thø hai mµ kh«ng ë d¹ng chuÈn thø ba lu«n lu«n cã thÓ chuyÓn thµnh mét tËp t­¬ng ®­¬ng gåm c¸c quan hÖ ë d¹ng chuÈn thø b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Kh«ng cã sù mÊt m¸t th«ng tin trong khi chuyÓn ®æ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­íc chuyÓn ®æi tõ quan hÖ 2NF (ch­a lµ 3NF) sang tËp quan hÖ t­¬ng ®­¬ng ë d¹ng chuÈn 3N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8002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quan hÖ 2NF ban ®Çu, mang b¶n copy cña thuéc tÝnh quyÕt ®Þnh cïng tÊt c¶ c¸c thuéc tÝnh kh«ng kho¸ mµ phô thuéc hµm vµo  thuéc tÝnh quyÕt ®Þnh nµy sang mét quan hÖ míi víi thuéc tÝnh quyÕt ®Þnh sÏ ®­îc chØ ®Þnh lµm kho¸ chÝnh cña quan hÖ míi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371600" y="2138400"/>
            <a:ext cx="6934320" cy="1671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6324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 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Møc ®é chuÈn ho¸ ®èi víi mét quan hÖ ®· cho ®­îc x¸c ®Þnh bëi ng÷ nghÜa (semantic) chø kh«ng ph¶i bëi c¸c gi¸ trÞ ®· cã mÆt trong quan hÖ t­¬ng øng t¹i mét thêi ®iÓm cô thÓ nµo ®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§iÒu quan träng lµ ph¶i biÕt ý nghÜa cña d÷ liÖu råi míi cã thÓ ®­a ra nhËn ®Þnh hiÖn t¹i l­îc ®å t­¬ng øng cña quan hÖ ®ã ë d¹ng chuÈn nµ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HQTCSDL kh«ng thÓ kh¼ng ®Þnh r»ng mét l­îc ®å quan hÖ ®· ë d¹ng chuÈn tèt nhÊt (3NF ch¼ng h¹n) nÕu nh­ ch­a nhËn ®Çy ®ñ th«ng tin vÒ c¸c phô thuéc d÷ liÖu t­¬ng ø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.3.4. </a:t>
            </a:r>
            <a:r>
              <a:rPr b="1" lang="en-US" sz="3200" spc="-1" strike="noStrike">
                <a:solidFill>
                  <a:srgbClr val="333399"/>
                </a:solidFill>
                <a:latin typeface=".VnTime"/>
              </a:rPr>
              <a:t>C¸c quan hÖ víi h¬n mét kho¸ øng cö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¶n th©n c¸c quan hÖ 1NF vµ 2NF kh«ng thùc sù quan träng, chóng chØ lµ c¸c ®iÓm trung gian trªn ®­êng dÉn tíi 3NF vµ 4N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§èi víi quan hÖ chØ cã mét kho¸ øng cö th× c¸c ®Þnh nghÜa 3NF vµ BCNF lµ t­¬ng ®­¬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Mét thuéc tÝnh (cã thÓ lµ thuéc tÝnh ghÐp) ®­îc gäi lµ thuéc tÝnh quyÕt ®Þnh (determinant) nÕu mét thuéc tÝnh kh¸c nµo ®ã lµ phô thuéc hµm ®Çy ®ñ vµo n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Quan hÖ ®· ®­îc chuÈn ho¸ R ®­îc gäi lµ ë d¹ng chuÈn BCNF (hay 3NF)  nÕu mäi thuéc tÝnh quyÕt ®Þnh ®Òu lµ kho¸ øng cö (candidate key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CNF kh«ng nªu lªn ®iÒu kiÖn ®Çu tiªn quan hÖ ®· cho ph¶i ë d¹ng chuÈn 3NF vµ sau ®ã míi tho¶ m·n thªm ®iÒu kiÖn n÷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Nh­ vËy, cÇn l­u ý lµ ®Þnh nghÜa BCNF kh«ng hoµn toµn t­¬ng ®­¬ng víi ®Þnh nghÜa 3NF§Þnh nghÜa 3NF kh«ng hoµn toµn phï hîp víi tr­êng hîp cña mét quan hÖ cã hai kho¸ øng cö phñ nhau nh­ sÏ thÊ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uy nhiªn, ®iÒu sau ®©y vÉn cßn ®óng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Êt kú mét quan hÖ nµo kh«ng ë d¹ng chuÈn 3NF (hay BCNF) ®Òu cã thÓ ®­îc t¸ch thµnh mét tËp t­¬ng ®­¬ng ë d¹ng chuÈn 3NF (hay BCN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Tr­êng hîp 1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456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Quan hÖ kh«ng ph¶i 3NF theo ®Þnh nghÜa cò th× vÉn kh«ng lµ 3NF theo ®Þnh nghÜa mí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456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§èi víi quan hÖ chØ cã mét kho¸ øng cö th× c¸c ®Þnh nghÜa 3NF vµ BCNF lµ t­¬ng ®­¬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6520" indent="-40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quan hÖ FIRST vµ SECOND, mµ kh«ng ph¶i lµ 3NF theo ®Þnh nghÜa cò th× vÉn kh«ng ph¶i lµ 3NF theo ®Þnh nghÜa mí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66520" indent="-40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quan hÖ SP, SC vµ CS mµ lµ quan hÖ 3NF theo ®Þnh nghÜa cò th× vÉn lµ 3NF theo ®Þnh nghÜa míi (BCNF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Tr­êng hîp 2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Quan hÖ lµ 3NF vµ BCNF v× cã hai kho¸ øng cö kh«ng phñ nhau (nonoverlapp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.VnTime"/>
              </a:rPr>
              <a:t>Hai kho¸ øng cö lµ tËp phñ nÕu mçi kho¸ gåm h¬n mét thuéc tÝnh vµ cã thuéc tÝnh chu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XÐt vÝ dô trong ®ã quan hÖ S lµ 3NF vµ còng lµ BCNF v× cã hai kho¸ øng cö kh«ng phñ nhau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S(S#, SNAME, STATUS, CIT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gi¶ thiÕt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TATUS vµ CITY lµ ®éc lËp víi nha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NAME lµ kho¸ øng c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50292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3.1.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iới thiệu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52280" y="1447920"/>
            <a:ext cx="8686800" cy="4572000"/>
            <a:chOff x="152280" y="1447920"/>
            <a:chExt cx="8686800" cy="4572000"/>
          </a:xfrm>
        </p:grpSpPr>
        <p:sp>
          <p:nvSpPr>
            <p:cNvPr id="107" name="Rectangle 5"/>
            <p:cNvSpPr/>
            <p:nvPr/>
          </p:nvSpPr>
          <p:spPr>
            <a:xfrm>
              <a:off x="152280" y="1447920"/>
              <a:ext cx="8686800" cy="4572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982800" y="1964520"/>
              <a:ext cx="7025040" cy="35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1718280" y="2469960"/>
              <a:ext cx="5554080" cy="252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2478240" y="2998440"/>
              <a:ext cx="4034520" cy="147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3319560" y="3491640"/>
              <a:ext cx="2350800" cy="52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60640" y="1516320"/>
              <a:ext cx="7345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.VnArial"/>
                </a:rPr>
                <a:t>C¸c quan hÖ tæng qu¸t (®· chuÈn ho¸ vµ ch­a chuÈn ho¸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047960" y="2044800"/>
              <a:ext cx="54932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.VnArial"/>
                </a:rPr>
                <a:t>C¸c quan hÖ 1NF (c¸c quan hÖ ®· chuÈn ho¸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1791000" y="2528640"/>
              <a:ext cx="2494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.VnArial"/>
                </a:rPr>
                <a:t>C¸c quan hÖ 2N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577240" y="3057480"/>
              <a:ext cx="3061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.VnArial"/>
                </a:rPr>
                <a:t>C¸c quan hÖ 3NF, BCN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3402720" y="3567960"/>
              <a:ext cx="2494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.VnArial"/>
                </a:rPr>
                <a:t>C¸c quan hÖ 4N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" name="Rectangle 15"/>
          <p:cNvSpPr/>
          <p:nvPr/>
        </p:nvSpPr>
        <p:spPr>
          <a:xfrm>
            <a:off x="2322360" y="60210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ình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3.1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ác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ức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ủa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uẩn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oá</a:t>
            </a:r>
            <a:r>
              <a:rPr b="1" lang="en-US" sz="2400" spc="-1" strike="noStrike">
                <a:solidFill>
                  <a:srgbClr val="333399"/>
                </a:solidFill>
                <a:latin typeface=".Vn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Quan hÖ S ®· thay ®æi nµy lµ 3NF vµ còng ë d¹ng BCNF v× c¶ hai thuéc tÝnh quyÕt ®Þnh (S# vµ SNAME) ®Òu lµ kho¸ øng c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Çn chØ ra c¶ hai kho¸ khi ®Þnh nghÜa quan hÖ víi môc ®Ých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¸o cho HQTCSDL ®Ó cã thÓ thùc hiÖn c¸c ®iÒu kiÖn thÓ hiÖn sù phô thuéc hai chiÒu gi÷a hai kho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ô thÓ: t­¬ng øng víi mçi sè hiÖu h·ng cung cÊp chØ cã mét tªn h·ng duy nhÊt vµ ng­îc l¹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B¸o cho ng­êi sö dông v× sù duy nhÊt cña hai thuéc tÝnh lµ ph­¬ng diÖn ng÷ nghÜa cña quan hÖ vµ do ®ã ng­êi sö dông rÊt cÇn quan t©m khi sö dông chó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Çu vµo KEY trong ®Þnh nghÜa quan hÖ lµ ®Ó chØ ra kho¸ chÝn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4520" indent="-412920">
              <a:lnSpc>
                <a:spcPct val="8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.VnTime"/>
              </a:rPr>
              <a:t>Mét ®Çu vµo n÷a lµ UNIQUE lµ cÇn thiÕt ®Ó chØ ra kho¸ øng cö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h­ vËy, trong l­îc ®å kh¸i niÖm, quan hÖ S cã thÓ ®Þnh nghÜa nh­ sau:</a:t>
            </a:r>
            <a:r>
              <a:rPr b="1" lang="en-US" sz="1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(S#, SNAME, STATUS, CITY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#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Q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SNAM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46920" indent="-6469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Tr­êng hîp 3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48520" indent="-40464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Quan hÖ lµ 3NF nh­ng kh«ng lµ BCNF v× kho¸ øng cö lµ tËp ph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1320" indent="-485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.VnTime"/>
              </a:rPr>
              <a:t>VÝ dô 1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XÐt quan hÖ SSP(S#, SNAME, P#, QTY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Gi¶ thiÕt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Sè hiÖu h·ng cung cÊp lµ duy nhÊ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ªn h·ng cung cÊp lµ duy nhÊ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Quan hÖ SSP nµy kh«ng ë d¹ng BCNF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Nh­ng theo ®Þnh nghÜa, SSP lµ quan hÖ ë d¹ng 3N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§Æc tÝnh nµy dÉn ®Õn sù d­ thõa th«ng tin mµ kÐo theo c¸c vÊn ®Ò trong phÐp to¸n thay ®æi ®èi víi quan hÖ SSP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VÝ dô sù thay ®æi tªn cña h·ng cung cÊp tõ Smith thµnh Robinson l¹i dÉn ®Õn hoÆc bµi to¸n t×m kiÕm, hoÆc kh¶ n¨ng kh«ng nhÊt qu¸n cña d÷ liÖu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§Ó gi¶i bµi to¸n nµy, còng nh­ th«ng th­êng, ta t¸ch quan hÖ SSP thµnh hai ¸nh x¹ 3NF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SS (S#, SNAME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SP(S#, P#, QTY)   [hoÆc SP (SNAME, P#, QTY)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381320" indent="-48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.VnTime"/>
              </a:rPr>
              <a:t>VÝ dô 2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XÐt quan hÖ SJT víi c¸c thuéc tÝn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 (Studen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J (subJect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 (Teacher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ý nghÜa cña mét bé trong quan hÖ SJT lµ mét sinh viªn ®­îc chØ ®Þnh ®­îc häc mét m«n ®­îc chØ ®Þnh lµ do mét gi¸o viªn ®­îc chØ ®Þnh d¹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quy luËt ng÷ nghÜ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i m«n häc cho mçi sinh viªn häc m«n ®ã chØ do mét gi¸o viªn d¹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i gi¸o viªn chØ d¹y mét m«n hä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i m«n häc cã thÓ do mét vµi gi¸o viªn d¹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96720" indent="-40464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×nh 3.11 minh ho¹ b¶ng d÷ liÖu cho quan hÖ nµ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1219320"/>
          <a:ext cx="5562720" cy="2925720"/>
        </p:xfrm>
        <a:graphic>
          <a:graphicData uri="http://schemas.openxmlformats.org/drawingml/2006/table">
            <a:tbl>
              <a:tblPr/>
              <a:tblGrid>
                <a:gridCol w="1444680"/>
                <a:gridCol w="2368440"/>
                <a:gridCol w="1749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Gr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Br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44"/>
          <p:cNvSpPr/>
          <p:nvPr/>
        </p:nvSpPr>
        <p:spPr>
          <a:xfrm>
            <a:off x="1706400" y="3201120"/>
            <a:ext cx="51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ình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3.11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ảng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ữ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ệu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ẫu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o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an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ệ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JT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7"/>
          <p:cNvSpPr/>
          <p:nvPr/>
        </p:nvSpPr>
        <p:spPr>
          <a:xfrm>
            <a:off x="1706400" y="3201120"/>
            <a:ext cx="51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ình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3.11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ảng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ữ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ệu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ẫu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ho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uan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ệ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JT</a:t>
            </a:r>
            <a:r>
              <a:rPr b="1" lang="en-US" sz="1800" spc="-1" strike="noStrike">
                <a:solidFill>
                  <a:srgbClr val="333399"/>
                </a:solidFill>
                <a:latin typeface=".Vn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X¸c ®Þnh c¸c phô thuéc hµm trong quan hÖ nµ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õ quy luËt ng÷ nghÜa ®Çu tiªn, chóng ta cã sù phô thuéc hµm cña T vµo thuéc tÝnh ghÐp (S, J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4.5. KÕt luËn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¸c b­íc ®Ó chuyÓn m« h×nh d÷ liÖu quan hÖ thµnh c¸c quan hÖ ë d¹ng chuÈn hãa 4NF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.VnTime"/>
              </a:rPr>
              <a:t>B­íc 1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: ChuyÓn mét quan hÖ tõ d¹ng ch­a chuÈn ho¸ thµnh mét tËp c¸c quan hÖ t­¬ng ®­¬ng ë d¹ng chuÈn ho¸ 1N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ã hai ph­¬ng ph¸p chuyÓn mét quan hÖ tõ d¹ng ch­a chuÈn ho¸ thµnh mét tËp c¸c quan hÖ t­¬ng ®­¬ng ë d¹ng chuÈn ho¸ 1NF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Lo¹i bá c¸c nhãm lÆp l¹i b»ng c¸ch ®­a d÷ liÖu thÝch hîp vµo c¸c cét trèng cña c¸c hµng chøa d÷ liÖu lÆp l¹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¸ch nµy th«ng th­êng ®­îc gäi lµ "lµm ph¼ng" ("flattening") b¶ng ®· ch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Víi ph­¬ng ph¸p nµy, sù d­ thõa ®· ®­îc ®­a vµo quan hÖ kÕt qu¶ vµ sau nµy sù d­ thõa nµy sÏ ®­îc lo¹i bá trong qu¸ tr×nh chuÈn ho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¸ch thø hai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hØ ®Þnh mét hoÆc mét nhãm c¸c thuéc tÝnh lµm kho¸ chÝnh cho b¶ng ch­a chuÈn ho¸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Lo¹i bá c¸c nhãm lÆp l¹i b»ng c¸ch mang nhãm c¸c thuéc tÝnh lÆp l¹i cïng víi b¶n copy cña kho¸ chÝnh sang mét quan hÖ t¸ch biÖ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hËn diÖn kho¸ chÝnh cho c¸c quan hÖ míi nhËn ®­î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«i khi b¶ng ch­a chuÈn ho¸ cã thÓ chøa h¬n mét nhãm lÆp l¹i hay c¸c nhãm lÆp l¹i lång nha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ong c¸c tr­êng hîp nh­ vËy, c¸ch tiÕp cËn nµy ®­îc øng dông lÆp ®i lÆp l¹i cho ®Õn khi nµo kh«ng cßn c¸c nhãm lÆp l¹i n÷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¶ hai c¸ch tiÕp cËn ®Òu ®óng, tuy nhiªn, víi c¸ch tiÕp cËn thø hai, ngay tõ ®Çu sÏ t¹o ra nh÷ng quan hÖ Ýt nhÊt lµ ë d¹ng chuÈn thø nhÊt (1NF) víi Ýt sù d­ thõa h¬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inh ho¹ hai c¸ch tiÕp cËn nµy b»ng c¸ch xÐt vÝ dô cña c«ng ty cho thuª tµi s¶n tªn lµ "DreamHome"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Ó ®¬n gi¶n ho¸ vÝ dô nµy, gi¶ thiÕ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çi kh¸ch chØ ®­îc thuª mét tµi s¶n ®· cho chØ mét lÇ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äi kh¸ch hµng ®­îc thuª h¬n mét tµi s¶n cïng mét ló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Éu biÓu chi tiÕt thuª tµi s¶n cña kh¸ch hµng cña c«ng ty DreamHome ®­îc minh ho¹ trªn h×nh 3.1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«ng tin vÒ c¸c tµi s¶n mµ hai kh¸ch thuª cã tªn John Kay vµ Aline Stewart  thuª ®­îc chuyÓn thµnh b¶ng Customer_Rental víi c¸c hµng vµ cét nh­ trªn h×nh 3.1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uéc tÝnh kho¸ chÝnh ®­îc nhËn diÖn cho b¶ng  ch­a chuÈn ho¸ Customer_Rental lµ Customer_N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Nhãm lÆp l¹i trong b¶ng ch­a chuÈn ho¸ lµ c¸c thuéc tÝnh cña tµi s¶n ®· ®­îc thuª mµ ®­îc lÆp l¹i cho tõng kh¸ch hµ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Nhãm lÆp l¹i = (Property_No, PAddress, RentStart, RentFinish, Rent,    Owner_ No, ONa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Ó chuyÓn b¶ng ch­a chuÈn ho¸ nµy thµnh d¹ng chuÈn 1NF, chóng ta ph¶i ®¶m b¶o chØ cã mét gi¸ trÞ t¹i mçi « c¾t nhau cña mçi hµng vµ mçi cé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.VnTime"/>
              </a:rPr>
              <a:t>C¸ch thø nhÊt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:  Lo¹i bá nhãm lÆp l¹i b»ng c¸ch ®­a d÷ liÖu vÒ kh¸ch hµng t­¬ng øng vµo  tõng hµ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D¹ng chuÈn 1NF cña quan hÖ Customer_Rental ®­îc minh ho¹ trªn h×nh 3.1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Kho¸ chÝnh cho quan hÖ Customer_rental nµy lµ thuéc tÝnh ghÐp bao gåm hai thuéc tÝnh (Customer_No, Property_No)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3.1.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Giới thiệu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odd lµ ng­êi ®Çu tiªn ®· ®Þnh nghÜa ba møc chuÈn ho¸ mµ «ng gäi lµ d¹ng chuÈn thø nhÊt, thø hai vµ thø b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Tãm l¹i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Êt c¶ c¸c quan hÖ ®· ®­îc chuÈn ho¸ ®Òu ë d¹ng chuÈn thø nhÊt (1NF: First Normal For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Mét sè quan hÖ 1NF còng ë d¹ng chuÈn thø hai (2NF: Second Normal For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mét sè quan hÖ 2NF còng ë d¹ng chuÈn thø ba (3NF: Third Normal For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Sau ®ã, Fagin ®· ®Þnh nghÜa d¹ng chuÈn thø bèn (4NF: Fourth Normal Form) víi tÝnh chÊt mét sè quan hÖ 3NF còng ë d¹ng chuÈn thø bè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Quan hÖ Customer_Rental ë d¹ng 1NF ®­îc ®Þnh nghÜa nh­ sau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ustomer_Rental = (</a:t>
            </a: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Customer_No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Property_No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CName, PAddress, RentStart, RentFinish, Rent,    Owner_ No, ONa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.VnTime"/>
              </a:rPr>
              <a:t>C¸ch thø hai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Lo¹i bá nhãm lÆp l¹i b»ng c¸ch mang d÷ liÖu lÆp l¹i cïng b¶n copy cña thuéc tÝnh kho¸ gèc (Customer_No) sang mét quan hÖ t¸ch biÖt ®­îc gäi lµ Customer  nh­ trªn h×nh 3.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Sau ®ã nhËn diÖn kho¸ chÝnh cho mçi quan h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quan hÖ Customer vµ Prop_Rental_Owner ®Òu ë d¹ng chuÈn 1NF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uy nhiªn, nh­ thÊy trªn h×nh 3.20, quan hÖ nµy vÉn cã sù d­ thõa d÷ liÖu do ®ã ph¶i tiÕp tôc qu¸ tr×nh chuÈn ho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B­íc 2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. T¹o c¸c ¸nh x¹ cña quan hÖ gèc 1NF ®Ó h¹n chÕ mäi phô thuéc hµm kh«ng ®Çy ®ñ vµo kho¸ chÝnh ®Ó t¹o ra mét tËp c¸c quan hÖ 2NF theo c¸c b­íc sau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quan hÖ ban ®Çu, ®èi víi mçi thuéc tÝnh cña kho¸ chÝnh, ta t¹o mét quan hÖ t¸ch biÖ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iÕp tôc t¹o c¸c quan hÖ t¸ch biÖt míi víi tÊt c¶ c¸c kÕt hîp cña c¸c thuéc tÝnh cña kho¸ chÝnh cho ®Õn khi t¹o ®­îc quan hÖ víi toµn bé kho¸ chÝnh gè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-21456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hØ ®Þnh thuéc tÝnh hoÆc kÕt hîp c¸c thuéc tÝnh nµy lµm kho¸ chÝnh cho c¸c quan hÖ mí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ong quan hÖ gèc, t×m sù phô thuéc hµm ®Çy ®ñ cña tõng thuéc tÝnh trong c¸c thuéc tÝnh cßn l¹i vµo c¸c kho¸ chÝnh míi t×m ra vµ ®Æt nã vµo quan hÖ t­¬ng øng víi kho¸ chÝnh míi nµ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i ®· xÐt hÕt c¸c thuéc tÝnh cßn l¹i trong quan hÖ gèc th× bá ®i c¸c quan hÖ mµ chØ cã c¸c thuéc tÝnh kho¸ mµ kh«ng cã c¸c thuéc tÝnh kh«ng kho¸ kh¸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quan hÖ ®· t¹o ra chÝnh lµ c¸c quan hÖ 2NF t­¬ng ®­¬ng víi quan hÖ ban ®Ç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VÝ dô, xÐt quan hÖ 1NF tªn lµ ORDER nh­ sau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ORDER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Order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Order_Dat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Product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Product_Desc, Num_Ordered)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ho¸ chÝnh cña quan hÖ nµy lµ kÕt hîp cña hai thuéc tÝnh (Order_Num, Product_Num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uéc tÝnh Num_Ordered phô thuéc vµo toµn bé kho¸ chÝn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uéc tÝnh Order_Date chØ phô thuéc vµo Order_Num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uéc tÝnh Product_Desc chØ phô thuéc vµo Product_Nu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Nh­ vËy, quan hÖ ORDER kh«ng ph¶i ë d¹ng 2N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heo thñ tôc chuyÓn thµnh 2NF, tiÕn hµnh nh­ sau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õ quan hÖ ban ®Çu, víi mçi thuéc tÝnh thuéc kho¸ chÝnh t¹o ®­îc c¸c quan hÖ t¸ch biÖ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Order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Product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KÕt hîp tiÕp theo cña c¸c thuéc tÝnh trong kho¸ chÝnh lµ hai thuéc tÝnh Order_Num vµ Product_Num, v× vËy, cã thªm quan hÖ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Order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Product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9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Æt c¸c thuéc tÝnh cßn l¹i trong quan hÖ ban ®Çu ORDER vµo c¸c quan hÖ míi t­¬ng ø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ORDER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Order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Order_D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PRODUCT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Product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Product_Desc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ORDER_LINE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Order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.VnTime"/>
              </a:rPr>
              <a:t>Product_Num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, Num_Order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Nh­ vËy, thay v× mét quan hÖ ORDER ban ®Çu, ®· nhËn ®­îc ba quan hÖ ë d¹ng 2NF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60840" indent="-5173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.VnTime"/>
              </a:rPr>
              <a:t>B­íc 3: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T¹o c¸c ¸nh x¹ cña c¸c quan hÖ 2NF nµy ®Ó h¹n chÕ mäi phô thuéc hµm b¾c cÇu cña c¸c thuéc tÝnh kh«ng kho¸ vµo kho¸ chÝnh. KÕt qu¶ sÏ t¹o nªn mét tËp c¸c quan hÖ 3N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9560" indent="-36936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õ quan hÖ 2NF ban ®Çu, mang b¶n copy cña thuéc tÝnh quyÕt ®Þnh cïng tÊt c¶ c¸c thuéc tÝnh kh«ng kho¸ mµ phô thuéc hµm vµo  thuéc tÝnh quyÕt ®Þnh nµy sang mét quan hÖ míi víi thuéc tÝnh quyÕt ®Þnh sÏ ®­îc chØ ®Þnh lµm kho¸ chÝnh cña quan hÖ míi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9560" indent="-36936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VÝ dô, xÐt quan hÖ CUSTOMER nh­ sau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USTOMER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Customer_Num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, Customer_Name, Address, Sales_Rep_Num, Sales_Rep_Nam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3080" indent="-36936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Quan hÖ nµy ch­a ë d¹ng 3NF v× thuéc tÝnh Sales_Rep_Name phô thuéc hµm vµo mét thuéc tÝnh lµ Sales_Rep_Nu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heo thñ tôc trªn sÏ nhËn ®­îc 2 quan hÖ ë d¹ng 3NF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USTOMER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Customer_Num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, Customer_Name, Address, Sales_Rep_Nu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SALES_REP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.VnTime"/>
              </a:rPr>
              <a:t>Sales_Rep_Num</a:t>
            </a: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, Sales_Rep_Nam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L­u ý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Tr­êng hîp quan hÖ ®· ë d¹ng 3NF nh­ng cã c¸c kho¸ øng cö phñ nhau th× ch­a thÓ kh¼ng ®Þnh lµ ®· ë d¹ng chuÈn BCNF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NÕu tån t¹i thuéc tÝnh quyÕt ®Þnh mµ kh«ng ph¶i lµ kho¸ øng cö th× ph¶i mang b¶n copy cña thuéc tÝnh quyÕt ®Þnh cïng c¸c thuéc tÝnh phô thuéc hµm ®Çy ®ñ vµo nã sang mét quan hÖ mí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Môc ®Ých chÝnh cña qu¸ tr×nh nµy lµ gi¶m ®­îc sù d­ thõa th«ng tin, vµ do ®ã tr¸nh ®­îc c¸c vÊn ®Ò dÞ th­êng víi c¸c phÐp to¸n l­u tr÷ nh­ ®· bµn ®Õn ë trª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KÕt luËn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¸c kh¸i niÖm phô thuéc d÷ liÖu trong ch­¬ng nµy ®· ®­îc xÐt cïng víi ng÷ nghÜa cña d÷ liÖ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ong khi ®ã c¸c ng«n ng÷ con d÷ liÖu chØ ®ông ch¹m ®Õn c¸c gi¸ trÞ d÷ liÖu tån t¹i ë mét thêi ®iÓm nµo ®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Æc biÖt, c¸c ng«n ng÷ ®ã kh«ng yªu cÇu c¸c quan hÖ mµ trªn ®ã chóng sÏ thao t¸c ph¶i ë d¹ng chuÈn nµo ngoµi d¹ng 1N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M« h×nh CSDL ë d¹ng chuÈn 3NF/BCNF cã thÓ xem nh­ mét quy ®Þnh - mét quy ®Þnh cho ng­êi thiÕt kÕ hÖ thèng d÷ liÖu (ng­êi qu¶n trÞ CSDL) ®Ó cã thÓ x©y dùng mét m« h×nh d÷ liÖu phÇn nµo ph¶n ¸nh ®­îc ®«i nÐt ng÷ nghÜa cña thÕ giíi hiÖn thùc phong ph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2. Phô thuéc hµ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.VnTime"/>
              </a:rPr>
              <a:t>Phô thuéc hµm (Funtional dependency - FD) trong mét quan hÖ lµ kh¸i niÖm rÊt quan träng, ®Æc biÖt ®èi víi ng­êi qu¶n trÞ hÖ thèng khi thiÕt kÕ m« h×nh d÷ liÖu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.VnTime"/>
              </a:rPr>
              <a:t>§Þnh nghÜa: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.VnTime"/>
              </a:rPr>
              <a:t>Cho tr­íc mét quan hÖ R, chóng ta nãi r»ng, thuéc tÝnh Y cña R lµ phô thuéc hµm vµo thuéc tÝnh X cña R nÕu vµ chØ nÕu mçi gi¸ trÞ cña X trong R ®­îc kÕt hîp víi ®óng mét gi¸ trÞ cña Y trong R t¹i bÊt kú thêi ®iÓm nµo(X vµ Y cã thÓ lµ c¸c thuéc tÝnh ghÐp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2. Phô thuéc hµ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S¬ ®å c¸c phô thuéc hµ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H×nh 3.2. C¸c phô thuéc hµm trong quan hÖ 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0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3810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2. Phô thuéc hµ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VÝ dô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CITY lµ phô thuéc hµm vµo S# cã nghÜa lµ mçi mét h·ng cung cÊp chØ ®Æt ®Þa chØ ë ®óng mét thµnh ph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Nãi mét c¸ch kh¸c, chóng ta ¸p ®Æt lªn thùc tÕ ®iÒu kiÖn lµ CSDL biÓu thÞ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mçi h·ng cung cÊp chØ ®Æt trô së ë ®óng mét thµnh ph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2. Phô thuéc hµm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VÝ dô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Trong quan hÖ SP cña m« h×nh d÷ liÖu h·ng-cung-cÊp-vµ-mÆt-hµng, thuéc tÝnh QTY lµ phô thuéc hµm vµo thuéc tÝnh ghÐp (S#, P#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.VnTime"/>
              </a:rPr>
              <a:t>3.3.3. D¹ng chuÈn 1NF-3NF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2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Quan hÖ R ®­îc gäi lµ ë d¹ng chuÈn thø nhÊt (1NF) nÕu vµ chØ nÕu tÊt c¶ c¸c miÒn ®Òu chØ chøa c¸c gi¸ trÞ nguyªn tè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BÊt kú quan hÖ ®· chuÈn ho¸ nµo còng lu«n ë d¹ng chuÈn thø nhÊ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ChuyÓn mét quan hÖ tõ d¹ng ch­a chuÈn ho¸ thµnh mét tËp c¸c quan hÖ t­¬ng ®­¬ng ë d¹ng chuÈn ho¸ 1N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Dµn ph¼ng (flaten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Lo¹i bá nhãm lÆp l¹i (remove repeating grou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ng Nguyen</cp:lastModifiedBy>
  <dcterms:modified xsi:type="dcterms:W3CDTF">2009-09-21T08:38:21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