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3B0C-61F6-438D-B657-95FE6E04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C0B-D16E-43C8-9A2F-18940BDB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C12-39BE-49E1-9242-A8D2DACD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6DC-1887-495C-912C-17904CBB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4F0F-3E69-457B-B9E7-0452197D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D41C-F107-419B-AB7F-1627033C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5620-5402-45AA-8225-951EF875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31ED-67CB-40A3-992E-5D9AF3AA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F3A0-C2BF-4B02-9144-AA7332CC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E9E5-65B1-48A9-B9CD-40BB3EAB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F714-4FB8-4990-AFEE-FD261CFD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A15-1366-468F-86F1-F62631E6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996B-BB24-4500-AB27-38677A76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91F6-1494-4C2C-8C0E-6D4A93F3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3A67-7CF3-4A5F-89C0-8D5E28AD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E4EA-EEDA-4A75-8752-BD67BC21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BF19-A2C1-401B-94C9-FF7C8162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AD6-5D35-4528-A251-EABAA0D0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8F6-09EA-446E-9DF0-2978102C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156-791C-430B-B835-B43296B1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DE1-B489-4641-BE11-A562BC51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AF3-97C8-4105-BA92-885A9AA5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040-8B03-42E0-AE68-3FF047AB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3A7-E4C2-4BB8-B761-7706653B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702C-B7D3-41BD-A7D2-2C4847A923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89C8-DC7F-4F54-932B-0ECB978C47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4042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Ơ LƯỢC LỊCH SỬ THUẾ VIỆT NA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2017440"/>
            <a:ext cx="84153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ỜI KỲ BẮC THUỘ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ỜI PHONG KIẾ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ỜI PHÁP THUỘ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U CMT8/194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AI ĐOẠN 1954 - 19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AI ĐOẠN 1976 - 198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AI ĐOẠN 1986 - 199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AI ĐOẠN 1990 –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ƯƠNG TRÌNH CẢI CÁCH THUẾ 2005 - 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Ơ LƯỢC LỊCH SỬ THUẾ VIỆT NA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5765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ffcf01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IAI ĐOẠN 1990 – 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42920" y="2563920"/>
          <a:ext cx="8928000" cy="4017960"/>
        </p:xfrm>
        <a:graphic>
          <a:graphicData uri="http://schemas.openxmlformats.org/drawingml/2006/table">
            <a:tbl>
              <a:tblPr/>
              <a:tblGrid>
                <a:gridCol w="1871640"/>
                <a:gridCol w="2160720"/>
                <a:gridCol w="1944360"/>
                <a:gridCol w="2951280"/>
              </a:tblGrid>
              <a:tr h="459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Ệ THỐNG LUẬT THUẾ VIỆT NAM HIỆN HÀ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U NHẬ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ÊU DÙ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ÀI SẢ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ff7"/>
                    </a:solidFill>
                  </a:tcPr>
                </a:tc>
              </a:tr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Ậ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UẾ TND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UẾ GTG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UẾ TTĐ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UẾ X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UẾ ĐẤT 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ff7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ÁP LỆ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UẾ TN C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f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UẾ TÀI NGUYÊ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UẾ NHÀ ĐẤ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ffff7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4042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Ơ LƯỢC LỊCH SỬ THUẾ VIỆT NA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2017440"/>
            <a:ext cx="84153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f01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ỜI KỲ BẮC THUỘ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ân biệt giữa tô và thu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ô: Sp thặng dư phải nộp cho chủ đấ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ế: Những khoản đóng góp cho nhà nướ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ổ chức phụ trách thu: “công tào”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êm quan: phụ trách thu thuế muố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ết quan: thu thuế khoáng sản, đặc biệt là thuế sắ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ủy quan: thu thuế thủy sả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ác huyện lệnh, trưởng hương, trưởng xã: thu các loại thuế khác trong địa bà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ập trung chuyển về kho chính tại Trung Quố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4042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Ơ LƯỢC LỊCH SỬ THUẾ VIỆT NA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764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ỜI PHONG KIẾ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iều đại nhà Trầ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uế thân (thuế đinh): Thuế đánh vào người dân tới tuổi trưởng thành, được quy ra và nộp bằng tiề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uế ruộng (thuế điền): đóng bằng thóc (nộp bằng hiện vậ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goài ra còn có thuế ruộng muối (phải đóng bằng tiền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Đánh thuế cả trầu cau, tôm cá, rau quả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iều Nguyễn (Gia Lo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uế đinh (Thuế thân): bằng tiề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uế điền: bằng thóc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uế sản vật: đánh vào khai thác cây quế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uế yến: đánh vào khai thác tổ chim Yến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uế hương liệu (cây trầm), thuế sâm, thuế chiếu, thuế gỗ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uế đánh vào các tàu bè các nước ra vào buôn bá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uế khai thác m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4042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Ơ LƯỢC LỊCH SỬ THUẾ VIỆT NA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764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ffcf01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ỜI PHÁP THUỘ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uế thâ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uế đin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4042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Ơ LƯỢC LỊCH SỬ THUẾ VIỆT NA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764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ffcf01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IAI ĐOẠN SAU CMT8/194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/1946-1951: 4 loại thuế trực th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ế điền thổ, thuế môn bài, thuế lợi tức, thuế lương bổ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1-10/1954: 7 loại thuế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ế nông nghiệp, thuế công thương nghiệp, thuế hàng hoá, thuế xuất khẩu, thuế nhập khẩu, thuế sát sinh, thuế trước bạ, thuế 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4042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Ơ LƯỢC LỊCH SỬ THUẾ VIỆT NA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64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ffcf01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IAI ĐOẠN 1954-19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uế nông nghiệp: thu bằng hiện vậ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2 loại thuế khác thu bằng tiề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uế doanh nghiệp; Thuế lợi tức doanh nghiệp; Thuế buôn chuyến; Thuế hàng hoá; Thuế sát sinh; Thuế kinh doanh nghệ thuật; Thuế thổ trạch; Thuế môn bài; Thuế trước bạ; Thuế muối; Thuế rượu; Thuế xuất khẩu; Thuế nhập khẩ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4042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Ơ LƯỢC LỊCH SỬ THUẾ VIỆT NA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64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ffcf01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IAI ĐOẠN 1976-198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uế nông nghiệp: thu bằng hiện vậ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2 loại thuế khác thu bằng tiề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uế doanh nghiệp; Thuế lợi tức doanh nghiệp; Thuế buôn chuyến; Thuế hàng hoá; Thuế sát sinh; Thuế kinh doanh nghệ thuật; Thuế thổ trạch; Thuế môn bài; Thuế trước bạ; Thuế muối; Thuế rượu; Thuế xuất khẩu; Thuế nhập khẩ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4042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Ơ LƯỢC LỊCH SỬ THUẾ VIỆT NA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764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ffcf01"/>
              </a:buClr>
              <a:buSzPct val="60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IAI ĐOẠN 1986 – 199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N quốc doanh: thu quốc doanh &amp; trích nộp lợi nhuậ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N thuộc các thành phần kinh tế khác: Thu Thuế công thương nghiệ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4042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Ơ LƯỢC LỊCH SỬ THUẾ VIỆT NA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64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ffcf01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IAI ĐOẠN 1990 –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H Khoá VIII, kỳ họp thứ 4 (cuối tháng 12/1988) đã đề ra yêu cầu phải xúc tiến việc nghiên cứu, cải tiến hệ thống chính sách thuế, phải thống nhất đối với các thành phần kinh t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ong năm 1990, QH Khoá VIII Hội đồng Nhà nước cho ban hành các Luật thuế và Pháp lệnh thuế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Thuế doanh thu; 2. Thuế TTĐB; 3. Thuế TN cao; 4. Thuế XNK; 5. Thuế tài nguyên; 6. Thuế nhà đất (chỉ áp dụng thu đất), 7. Chế độ thu về sử dụng vốn NSN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5T09:50:01Z</dcterms:created>
  <dc:creator>DAN QUE</dc:creator>
  <dc:description/>
  <dc:language>en-US</dc:language>
  <cp:lastModifiedBy>user</cp:lastModifiedBy>
  <dcterms:modified xsi:type="dcterms:W3CDTF">2006-09-04T02:10:20Z</dcterms:modified>
  <cp:revision>14</cp:revision>
  <dc:subject/>
  <dc:title>SƠ LƯỢC LỊCH SỬ THUẾ VIỆT NAM</dc:title>
</cp:coreProperties>
</file>