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1ED5-D6B9-4C70-A9CA-B98E533EC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B8D0-DBD4-4DCD-A6BC-B8777721F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0C7F-7BA5-45F0-AA75-E9222D185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4895-8A9B-4B56-969D-48FB44D85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71A87-68F2-445D-A51F-C77FE146E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89000-1042-4E69-9106-A8BE8B5FE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9E33B-3872-4899-8C3C-EE175289C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1DC9B-1AFA-4F70-9100-056604B28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EA63E-C0B1-47D1-A592-1D3BF136A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6B59C-4503-4714-8434-8C152B834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2ED65-FA47-40B2-94C1-0EDFCC3F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FA76-A18B-40F9-83CC-2A728E792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1177E-1437-483B-8F06-8AAB693AB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52522-0345-4386-B633-9834723D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FEBC4-6CF1-4504-B802-F5851AE85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A5E76-832A-45D2-BF0A-D588FB92A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BCDDD-4180-4A0B-BDDD-D088D7F50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0FE7-351A-49C2-871E-060686F2C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E0C2-A6AA-48A1-9B0A-D78A4E775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C9AC-3982-45C2-90AE-E90D5D5D5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9097-647C-4240-90E3-F8C4A02B2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4811-4202-4C8F-8A15-3A43C6081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0BD2-57F5-4215-982C-CAFC7D5A0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797E-BD95-4CD4-AEDB-C0274F99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C2C92-9AE7-4A3E-B438-99996F3EC83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D0F75-90FD-461A-A3D9-C15E6EAAA9A5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188000" y="845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THUẾ TIÊU THỤ ĐẶC BIỆT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4000" y="2349360"/>
            <a:ext cx="845964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hái niệ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Đặc điểm của hàng hóa, dịch vụ chịu thuế TTĐ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ý do đánh thuế TTĐ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uật Thuế TTĐB Việt Na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CAF4-2A11-4FD1-A506-0D3D147826C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-6858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4.3. Căn cứ, phương pháp tính thuế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684000" y="2361960"/>
            <a:ext cx="845964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Bước 2: Phương pháp tính thuế TTĐ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Đối với hàng sản xuất trong nước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uế TTĐB = Số lượng x Giá tính thuế TTĐB x Thuế suấ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Đối với hàng hóa nhập khẩu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uế TTĐB = (Giá tính thuế NK + Thuế NK) x Thuế suấ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B5EC-4828-4B33-8D67-DCBACF03A9A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188000" y="845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-685800" algn="ctr">
              <a:lnSpc>
                <a:spcPct val="90000"/>
              </a:lnSpc>
              <a:buClr>
                <a:srgbClr val="0066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Khái niệm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131640" y="3355920"/>
            <a:ext cx="57610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uế TTĐB là thuế đánh trên tiêu dùng của những hàng hóa có lựa chọn, ví dụ: rượu, bia, thuốc lá, sản phẩm dầu mỏ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042920" y="3284640"/>
            <a:ext cx="2160720" cy="194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3D05-CCD0-498A-9EAA-D6C55A9441C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28000" y="845280"/>
            <a:ext cx="81403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-685800" algn="just">
              <a:lnSpc>
                <a:spcPct val="90000"/>
              </a:lnSpc>
              <a:buClr>
                <a:srgbClr val="006666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Đặc điểm của hàng hóa, dịch vụ chịu thuế TTĐB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062840" y="5664240"/>
            <a:ext cx="1830240" cy="11494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982800" y="2937960"/>
            <a:ext cx="798192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ần được điều tiết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ầu không co giãn theo giá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Độ co giãn cầu theo thu nhập &gt; 1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iệc tiêu dùng có thể gây ra ngoại tác tiêu cực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D7F0-F344-4106-A138-9F232B3AD16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28000" y="845280"/>
            <a:ext cx="81403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-685800" algn="just">
              <a:lnSpc>
                <a:spcPct val="90000"/>
              </a:lnSpc>
              <a:buClr>
                <a:srgbClr val="006666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ý do đánh thuế TTĐB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900000" y="2781360"/>
            <a:ext cx="79819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ạo nguồn thu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ửa chữa ngoại tác tiêu cực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ải thiện công bằng theo chiều dọc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211640" y="4797360"/>
            <a:ext cx="1779480" cy="17877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187280" y="4869000"/>
            <a:ext cx="1638360" cy="16491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7093080" y="4941720"/>
            <a:ext cx="1726920" cy="1440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CC49-9A60-491B-81FC-D1B3A5B7CDA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188000" y="845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-685800" algn="ctr">
              <a:lnSpc>
                <a:spcPct val="90000"/>
              </a:lnSpc>
              <a:buClr>
                <a:srgbClr val="006666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Luật Thuế TTĐB Việt Nam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971280" y="2997360"/>
            <a:ext cx="648180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4.1. Đối tượng chịu thuế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4.2. Đối tượng nộp thuế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4.3. Căn cứ, phương pháp tính thuế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7FED-AD75-466C-B628-AC5FF6C632A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-6858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4.1. Đối tượng chịu thuế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3770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àng hóa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uốc lá điếu, xì gà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ượu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ia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Ô tô &lt; 24 chỗ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Xăng các loại, nap-ta, chế phẩm tái hợp và các chế phẩm khác để pha chế xăng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Điều hòa nhiệt độ &lt;= 90000 BTU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ài lá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àng mã, hàng mã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265360" y="2362320"/>
            <a:ext cx="3770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ịch vụ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Kinh doanh vũ trường, mát-xa, karaoke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Kinh doanh casino, trò chơi bằng máy jackpot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Kinh doanh golf: bán thẻ hội viên, vé chơi golf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Kinh doanh xổ số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A473-0956-4A7F-92B7-EECDA860C8A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35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188000" y="845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-6858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4.2. Đối tượng nộp thuế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474920" y="2421000"/>
            <a:ext cx="712944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ổ chức sản xuất, nhập khẩu hàng hóa, kinh doanh dịch vụ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á nhân, hộ gia đình, nhóm người kinh doanh độc lập và các đối tượng kinh doanh khác có hoạt động sản xuất, kinh doanh, nhập khẩu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C490-452C-4745-B3BC-347B346FDB5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-6858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4.3. Căn cứ, phương pháp tính thuế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12664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Bước 1: Xác định giá tính thuế TTĐ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Đối với hàng hóa, dịch vụ trong nước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Đối với hàng hóa nhập khẩu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Đối với hàng hóa gia công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116000" y="3213000"/>
                <a:ext cx="684072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iaù tính thueá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Giaù baùn chöa coù thueá GTG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Thueá suaát thueá TTÑ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187280" y="4724280"/>
                <a:ext cx="734544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iaù tính thueá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Giaù tính thueá NK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Thueá N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258920" y="5907240"/>
                <a:ext cx="684036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iaù tính thueá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Giaù baùn chöa coù thueá GTG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Thueá suaát thueá TTÑ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453A-866A-4200-ABD7-07E3B751628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-6858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4.3. Căn cứ, phương pháp tính thuế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12664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Bước 1: Xác định giá tính thuế TTĐ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Đối với bán trả góp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iá bán chưa có thuế TTĐB và thuế GTGT bán theo phương thức trả tiền một lần, không bao gồm lãi trả góp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Đối với dịch vụ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476360" y="4826160"/>
                <a:ext cx="684072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iaù tính thueá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Giaù baùn chöa coù thueá GTG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Thueá suaát thueá TTÑ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C998-48D2-4E72-8D1F-7DDBC012619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7T02:05:47Z</dcterms:created>
  <dc:creator>DAN QUE</dc:creator>
  <dc:description/>
  <dc:language>en-US</dc:language>
  <cp:lastModifiedBy>User</cp:lastModifiedBy>
  <dcterms:modified xsi:type="dcterms:W3CDTF">2008-07-01T03:08:28Z</dcterms:modified>
  <cp:revision>33</cp:revision>
  <dc:subject/>
  <dc:title>THUẾ TIÊU THỤ ĐẶC BIỆT</dc:title>
</cp:coreProperties>
</file>