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532-1590-4D6C-9B49-01259485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BC9-F757-4896-A499-774F837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D07-0C2A-4119-BEA1-E6A3798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71F-E6C7-4BC9-8ED4-DB2E3947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8DC-4E06-4896-A9D1-73A9FBC3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3CC-E26B-4C19-8499-74E64F52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4A3B-5A31-4212-B704-ED6DEA92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DEB3-5A4C-4784-B631-65467657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514-A3BB-4259-9549-C73E131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76D-5B76-4712-9984-315F632C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7FF-6C06-43D1-A845-7E3A4986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FAC-888F-420A-BE9C-F558A06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5F02-E3C1-4140-ADAC-C0069BAB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437-BC32-4580-80A8-818474A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2775-746C-4D17-B45A-7EE29A58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F782-4ED7-4FF0-A3DE-2522CD84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58F0-CE90-4572-B038-9919004C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0F2-33DC-4294-A9ED-9F6A4CA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23F-809B-425C-9A43-13C89764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280-075B-47A8-AF6C-ED24EC5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141-F11D-4D04-B5C6-E6FDC00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2F5-F9D0-4397-8F3F-28A0E83F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5CA-17B8-4A74-B480-BA7F7F14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CDB-51B1-4F7F-9D4A-DDC985F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bb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bb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bb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bb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bb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3E20-6E5F-4988-B005-0190435BB07C}" type="slidenum">
              <a:rPr b="0" lang="en-US" sz="1400" spc="-1" strike="noStrike">
                <a:solidFill>
                  <a:srgbClr val="bb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beae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E0D-B239-4579-8170-17097415D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632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Khái niệm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Mục đích của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Các nguyên tắc của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Các điều kiện áp dụng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fffff"/>
                </a:solidFill>
                <a:latin typeface="Arial"/>
              </a:rPr>
              <a:t>Phương pháp tính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193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Phân biệt miễn thuế và thuế suất 0%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Ưu điểm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Nhược điểm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Xu hướng áp dụng thuế GTGT tại các nước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beaea"/>
                </a:solidFill>
                <a:latin typeface="Arial"/>
              </a:rPr>
              <a:t>Câu hỏi thảo luận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257040" y="1828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243000" y="2286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247680" y="315288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228600" y="399564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228600" y="448164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4495680" y="1828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4495680" y="2743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" action="ppaction://hlinksldjump"/>
          </p:cNvPr>
          <p:cNvSpPr/>
          <p:nvPr/>
        </p:nvSpPr>
        <p:spPr>
          <a:xfrm>
            <a:off x="4495680" y="32767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8" action="ppaction://hlinksldjump"/>
          </p:cNvPr>
          <p:cNvSpPr/>
          <p:nvPr/>
        </p:nvSpPr>
        <p:spPr>
          <a:xfrm>
            <a:off x="4495680" y="3809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4495680" y="47242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CDE-DF59-47EC-9257-BA8D238B33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Miễn thuế và thuế suất 0% (tt)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19320"/>
            <a:ext cx="129528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ông d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1600200"/>
            <a:ext cx="18288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xay b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198108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làm bá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36232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tiêu dù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295280"/>
            <a:ext cx="91440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29528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1676520"/>
            <a:ext cx="83808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057400"/>
            <a:ext cx="83844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05740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2193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9bb7"/>
                </a:solidFill>
                <a:latin typeface="Arial"/>
              </a:rPr>
              <a:t>P1=1000, 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a18d"/>
                </a:solidFill>
                <a:latin typeface="Arial"/>
              </a:rPr>
              <a:t>P2=1500,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1965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d280"/>
                </a:solidFill>
                <a:latin typeface="Arial"/>
              </a:rPr>
              <a:t>P3=2500, 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76320" y="2913120"/>
          <a:ext cx="9296640" cy="3182760"/>
        </p:xfrm>
        <a:graphic>
          <a:graphicData uri="http://schemas.openxmlformats.org/drawingml/2006/table">
            <a:tbl>
              <a:tblPr/>
              <a:tblGrid>
                <a:gridCol w="3505320"/>
                <a:gridCol w="914400"/>
                <a:gridCol w="1219320"/>
                <a:gridCol w="1447560"/>
                <a:gridCol w="221004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ffff"/>
                          </a:solidFill>
                          <a:latin typeface="Times New Roman"/>
                        </a:rPr>
                        <a:t>Tổng cộ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rực tiếp</a:t>
                      </a: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 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0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ấu trừ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 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0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=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 =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0%,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-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2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-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2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2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28600" y="2452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fffff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ffff"/>
                </a:solidFill>
                <a:latin typeface="Times New Roman"/>
              </a:rPr>
              <a:t>Thuế suất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432-5C6D-4EC7-B159-18306F989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Miễn thuế và thuế suất 0% (tt)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19320"/>
            <a:ext cx="129528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ông d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18288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xay b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98108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làm bá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36232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tiêu dù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295280"/>
            <a:ext cx="91440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129528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1676520"/>
            <a:ext cx="83808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057400"/>
            <a:ext cx="83844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205740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1219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9bb7"/>
                </a:solidFill>
                <a:latin typeface="Times New Roman"/>
              </a:rPr>
              <a:t>P1,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600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dbf"/>
                </a:solidFill>
                <a:latin typeface="Times New Roman"/>
              </a:rPr>
              <a:t>P2, 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1965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280"/>
                </a:solidFill>
                <a:latin typeface="Times New Roman"/>
              </a:rPr>
              <a:t>P3, 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320" y="2819520"/>
          <a:ext cx="8153280" cy="1900080"/>
        </p:xfrm>
        <a:graphic>
          <a:graphicData uri="http://schemas.openxmlformats.org/drawingml/2006/table">
            <a:tbl>
              <a:tblPr/>
              <a:tblGrid>
                <a:gridCol w="2666880"/>
                <a:gridCol w="2209680"/>
                <a:gridCol w="1676520"/>
                <a:gridCol w="16002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rực tiếp</a:t>
                      </a: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 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ấu tr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+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bdbf"/>
                          </a:solidFill>
                          <a:latin typeface="Times New Roman"/>
                        </a:rPr>
                        <a:t>t2P</a:t>
                      </a:r>
                      <a:r>
                        <a:rPr b="0" lang="en-US" sz="1200" spc="-1" strike="noStrike">
                          <a:solidFill>
                            <a:srgbClr val="ffbdb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76320" y="2438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ffff"/>
                </a:solidFill>
                <a:latin typeface="Times New Roman"/>
              </a:rPr>
              <a:t>Miễn thu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6814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fffff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ffff"/>
                </a:solidFill>
                <a:latin typeface="Times New Roman"/>
              </a:rPr>
              <a:t>Thuế suất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320" y="5025960"/>
          <a:ext cx="8153280" cy="1832040"/>
        </p:xfrm>
        <a:graphic>
          <a:graphicData uri="http://schemas.openxmlformats.org/drawingml/2006/table">
            <a:tbl>
              <a:tblPr/>
              <a:tblGrid>
                <a:gridCol w="2666880"/>
                <a:gridCol w="2209680"/>
                <a:gridCol w="1677960"/>
                <a:gridCol w="1598760"/>
              </a:tblGrid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rực tiếp</a:t>
                      </a: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ấu tr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3B5-0D2A-4610-B597-E45239C9A9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Ưu điểm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ính trung lập đối với các quy trình SXKD khác nhau thông qua việc xoá bỏ được vấn đề đánh chồng thuế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làm tăng giá đột biến qua từng công đoạn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ễ hành thu: gánh nặng thuế được chuyển giao qua từng công đoạn đến người tiêu dùng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ích hợp với các hiệp định hải quan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ó thể khuyến khích đầu tư và xuất khẩu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ự động hóa và đơn giản hóa quản lý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1A7-2BD1-4493-AD98-5E014160019F}" type="slidenum">
              <a:t>12</a:t>
            </a:fld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Nhược điểm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lũy thoái -&gt; không hiệu quả &amp; không công bằng (thuế suất trung bình trên thu nhập của người người nghèo cao hơn so với người giàu)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ánh trên giá trị hàng hóa -&gt; có thể gây biến động giá vào thời điểm ban hành -&gt; có thể gây lạm phát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ức tạp trong công tác hành thu.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5CC-71D1-4491-A611-E43AF5712BF1}" type="slidenum">
              <a:t>13</a:t>
            </a:fld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Xu hướng áp dụng thuế GTGT tại các nước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ơn giản hóa hệ thống thuế suất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/v hoạt động XK: Áp dụng thuế suất 0% -&gt; khuyến khích XK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/v sản phẩm chưa qua chế biến: Miễn thuế GTGT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/v dịch vụ tài chính: Miễn thuế GTGT (vì khó xđ GTGT, và hạn chế chuyển dịch vụ tài chính sang khu vực khác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uyến k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í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đầu tư: Khấu trừ và hoàn thuế từ việc mua TLSX.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099-A9AC-4396-8A1B-9B29FAAB03CC}" type="slidenum">
              <a:t>14</a:t>
            </a:fld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Câu hỏi thảo luận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GTGT có gây ra lạm phát không?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ó ý kiến cho rằng: “Thuế GTGT mang tính lũy thoái” (Đúng hay sai, Giải thích)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EB4-7793-4053-BBBA-FA743D4205D3}" type="slidenum">
              <a:t>15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2057400"/>
            <a:ext cx="4495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Khái niệm</a:t>
            </a:r>
            <a:r>
              <a:rPr b="0" lang="en-US" sz="2800" spc="-1" strike="noStrike">
                <a:solidFill>
                  <a:srgbClr val="ccd2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aea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aea"/>
                </a:solidFill>
                <a:latin typeface="Times New Roman"/>
              </a:rPr>
              <a:t>Là một loại </a:t>
            </a:r>
            <a:r>
              <a:rPr b="0" lang="en-US" sz="2000" spc="-1" strike="noStrike">
                <a:solidFill>
                  <a:srgbClr val="cd5364"/>
                </a:solidFill>
                <a:latin typeface="Times New Roman"/>
              </a:rPr>
              <a:t>thuế gián thu</a:t>
            </a:r>
            <a:r>
              <a:rPr b="0" lang="en-US" sz="2000" spc="-1" strike="noStrike">
                <a:solidFill>
                  <a:srgbClr val="bbeaea"/>
                </a:solidFill>
                <a:latin typeface="Times New Roman"/>
              </a:rPr>
              <a:t> đánh vào sự tiêu dùng hàng hoá, dịch vụ. Ðược gọi là thuế giá trị gia tăng vì thuế chỉ đánh trên phần </a:t>
            </a:r>
            <a:r>
              <a:rPr b="0" lang="en-US" sz="2000" spc="-1" strike="noStrike">
                <a:solidFill>
                  <a:srgbClr val="cd5364"/>
                </a:solidFill>
                <a:latin typeface="Times New Roman"/>
              </a:rPr>
              <a:t>giá trị tăng thêm</a:t>
            </a:r>
            <a:r>
              <a:rPr b="0" lang="en-US" sz="2000" spc="-1" strike="noStrike">
                <a:solidFill>
                  <a:srgbClr val="bbeaea"/>
                </a:solidFill>
                <a:latin typeface="Times New Roman"/>
              </a:rPr>
              <a:t> qua </a:t>
            </a:r>
            <a:r>
              <a:rPr b="0" lang="en-US" sz="2000" spc="-1" strike="noStrike">
                <a:solidFill>
                  <a:srgbClr val="cd5364"/>
                </a:solidFill>
                <a:latin typeface="Times New Roman"/>
              </a:rPr>
              <a:t>mỗi khâu</a:t>
            </a:r>
            <a:r>
              <a:rPr b="0" lang="en-US" sz="2000" spc="-1" strike="noStrike">
                <a:solidFill>
                  <a:srgbClr val="bbeaea"/>
                </a:solidFill>
                <a:latin typeface="Times New Roman"/>
              </a:rPr>
              <a:t> của quá trình sản xuất kinh doanh.</a:t>
            </a:r>
            <a:endParaRPr b="0" lang="en-US" sz="2000" spc="-1" strike="noStrike">
              <a:solidFill>
                <a:srgbClr val="bbeaea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beaea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1981080"/>
          <a:ext cx="4343400" cy="297180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1932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Công đo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Giá bán 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GT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S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Bán buô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Bán l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09480" y="5257800"/>
            <a:ext cx="7315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Times New Roman"/>
              </a:rPr>
              <a:t>Cách tính thuế GTGT: t* x 50 + t* x 20 + t* x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d28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ccd28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ccd28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ccd2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ccd280"/>
                </a:solidFill>
                <a:latin typeface="Times New Roman"/>
              </a:rPr>
              <a:t>(t*: Thuế suất thuế GT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97632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028-DC51-4EBC-9AE2-EB64FBBCC861}" type="slidenum">
              <a:t>2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d2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d280"/>
                </a:solidFill>
                <a:latin typeface="Arial"/>
              </a:rPr>
              <a:t>Mục đích của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uyến khích đầu tư phát triển sx &amp; dịch vụ, đặc biệt là xuất khẩu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óp phần bảo vệ hợp lý sx trong nước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ơn giản hóa chính sách, tăng cường tính trung lập của thuế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ắc phục những nhược điểm của thuế doanh thu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ảm bảo nguồn thu cho NSNN.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7632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AD8-F3DF-4977-B689-E926880053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Các nguyên tắc của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ánh trên tất cả các hàng hóa, dịch vụ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ánh trên giá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ánh trên nhiều giai đoạn của quy trình sx, phân phối và tiêu dùng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ánh trên số tiêu thụ cuối cùng.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7632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756-7973-41A7-B043-6C40E1976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Các điều kiện áp dụng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ền kinh tế phát triển ổn định, thực sự được quản lý bằng hệ thống luật pháp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ực hiện ghi chép sổ sách kế toán thống nhất, áp dụng hóa đơn chứng từ trong tất cả các giao dịch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ó khả năng phát triển thanh toán qua tài khoản NH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án bộ thuế có nghiệp vụ và trình độ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 có ý thức chấp hành luật pháp, tính tự giác kê khai thuế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ình độ dân trí tương đối cao;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ó khả năng ứng dụng khoa học kỹ thuật thông tin.</a:t>
            </a:r>
            <a:endParaRPr b="0" lang="en-US" sz="24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7632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32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BF0-ABAF-4203-ABD7-6B22820C08A8}" type="slidenum">
              <a:t>5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Các phương pháp tính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447920"/>
          <a:ext cx="7924680" cy="5289480"/>
        </p:xfrm>
        <a:graphic>
          <a:graphicData uri="http://schemas.openxmlformats.org/drawingml/2006/table">
            <a:tbl>
              <a:tblPr/>
              <a:tblGrid>
                <a:gridCol w="990360"/>
                <a:gridCol w="2438640"/>
                <a:gridCol w="2438280"/>
                <a:gridCol w="205740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Cộ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Khấu trừ (Invoice/Credit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rực tiếp 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Cách tí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*(Lương+Lợi nhuậ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đầu ra</a:t>
                      </a:r>
                      <a:r>
                        <a:rPr b="0" lang="en-US" sz="20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*giá trị đầu ra - t</a:t>
                      </a:r>
                      <a:r>
                        <a:rPr b="0" lang="en-US" sz="14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đầu vào</a:t>
                      </a:r>
                      <a:r>
                        <a:rPr b="0" lang="en-US" sz="20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*giá trị đầu và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*(giá trị đầu ra – giá trị đầu và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Ưu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Dễ hiể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Dễ áp dụng khi có nhiều mức 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huận tiện khi có ưu đãi thuế suất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DN phải có trách nhiệm quản lý chứng t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0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Nhược điể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hực hiện phức tạ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Gây tổn thất cho DN khi hoàn thuế ch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ó thực hiện khi</a:t>
                      </a:r>
                      <a:r>
                        <a:rPr b="0" lang="en-US" sz="28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đầu ra </a:t>
                      </a: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ác</a:t>
                      </a:r>
                      <a:r>
                        <a:rPr b="0" lang="en-US" sz="1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đầu và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DB0-C5CD-43EB-814A-144E0992D19A}" type="slidenum">
              <a:t>6</a:t>
            </a:fld>
          </a:p>
        </p:txBody>
      </p:sp>
    </p:spTree>
  </p:cSld>
  <p:transition>
    <p:pull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Ví dụ các phương pháp tính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23880"/>
            <a:ext cx="1523880" cy="45972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ông d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1895400"/>
            <a:ext cx="2133360" cy="45972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ười xay bộ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2276640"/>
            <a:ext cx="2438280" cy="45972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ười làm bá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2666880"/>
            <a:ext cx="2438640" cy="45972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ười tiêu d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600200"/>
            <a:ext cx="121932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160020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981080"/>
            <a:ext cx="121932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362320"/>
            <a:ext cx="121932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2362320"/>
            <a:ext cx="0" cy="30456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568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9bb7"/>
                </a:solidFill>
                <a:latin typeface="Times New Roman"/>
              </a:rPr>
              <a:t>P1=1000, t1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494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a18d"/>
                </a:solidFill>
                <a:latin typeface="Times New Roman"/>
              </a:rPr>
              <a:t>P2=1500, t2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2330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d280"/>
                </a:solidFill>
                <a:latin typeface="Times New Roman"/>
              </a:rPr>
              <a:t>P3=2500, t3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3276720"/>
          <a:ext cx="9144000" cy="334476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  <a:gridCol w="2667240"/>
                <a:gridCol w="3352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Cộ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Khấu tr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Trực tiế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Cách tín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*(Lương+Lợi nhuậ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đầu r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giá trị đầu ra - 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đầu và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giá trị đầu và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*(giá trị đầu ra – giá trị đầu và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Cụ th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Xđ lương &amp; lợi nhuận của nông dân, người xay bột, người làm bán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= 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[10%*10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+(10%*1500-10%*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+(10%*2500-10%*1500) = 10%*2500 = 25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(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[10%*10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+10%*(1500-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+10%(2500-1500) = 25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0CC-7A55-4DFA-ABF4-723B253C3C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Phân biệt miễn thuế và thuế suất 0%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895400"/>
            <a:ext cx="4419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ffff"/>
                </a:solidFill>
                <a:latin typeface="Arial"/>
              </a:rPr>
              <a:t>Miễn thu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ông đoạn được miễn thuế biến mất khỏi quy trình thuế GT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uỗi thu thuế bị gián đoạ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được hoàn phần thuế đã nộp ở công đoạn trướ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được phát hành hóa đơn thuế GTGT ở công đoạn s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905120"/>
            <a:ext cx="4572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ffff"/>
                </a:solidFill>
                <a:latin typeface="Arial"/>
              </a:rPr>
              <a:t>Thuế suất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ông đoạn được ưu đãi không phải nộp thuế đầu ra nhưng vẫn được hoàn thuế đầu và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uỗi thu thuế không bị gián đoạ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ược phát hành hóa đơn thuế GTGT ở công đoạn sau, ghi t = 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085-CB3B-41A7-9E65-471C0D1E2C9C}" type="slidenum">
              <a:t>8</a:t>
            </a:fld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dbf"/>
                </a:solidFill>
                <a:latin typeface="Arial"/>
              </a:rPr>
              <a:t>NHỮNG VẤN ĐỀ CHUNG VỀ THUẾ GTGT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d2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d280"/>
                </a:solidFill>
                <a:latin typeface="Arial"/>
              </a:rPr>
              <a:t>Miễn thuế và thuế suất 0% (tt)</a:t>
            </a:r>
            <a:endParaRPr b="0" lang="en-US" sz="2800" spc="-1" strike="noStrike">
              <a:solidFill>
                <a:srgbClr val="bb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219320"/>
            <a:ext cx="129528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ông d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600200"/>
            <a:ext cx="18288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xay b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198108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làm bá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362320"/>
            <a:ext cx="2057400" cy="398880"/>
          </a:xfrm>
          <a:prstGeom prst="rect">
            <a:avLst/>
          </a:prstGeom>
          <a:noFill/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ười tiêu dù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295280"/>
            <a:ext cx="91440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129528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676520"/>
            <a:ext cx="83808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057400"/>
            <a:ext cx="838440" cy="0"/>
          </a:xfrm>
          <a:prstGeom prst="line">
            <a:avLst/>
          </a:prstGeom>
          <a:ln w="9360">
            <a:solidFill>
              <a:srgbClr val="a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057400"/>
            <a:ext cx="0" cy="304920"/>
          </a:xfrm>
          <a:prstGeom prst="line">
            <a:avLst/>
          </a:prstGeom>
          <a:ln w="9360">
            <a:solidFill>
              <a:srgbClr val="a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193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9bb7"/>
                </a:solidFill>
                <a:latin typeface="Arial"/>
              </a:rPr>
              <a:t>P1=1000, t1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600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a18d"/>
                </a:solidFill>
                <a:latin typeface="Arial"/>
              </a:rPr>
              <a:t>P2=1500, t2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9652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d280"/>
                </a:solidFill>
                <a:latin typeface="Arial"/>
              </a:rPr>
              <a:t>P3=2500, t3=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2895480"/>
          <a:ext cx="9144000" cy="3183120"/>
        </p:xfrm>
        <a:graphic>
          <a:graphicData uri="http://schemas.openxmlformats.org/drawingml/2006/table">
            <a:tbl>
              <a:tblPr/>
              <a:tblGrid>
                <a:gridCol w="3505320"/>
                <a:gridCol w="914400"/>
                <a:gridCol w="1218960"/>
                <a:gridCol w="1295640"/>
                <a:gridCol w="2209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Phương phá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ffff"/>
                          </a:solidFill>
                          <a:latin typeface="Times New Roman"/>
                        </a:rPr>
                        <a:t>Tổng cộ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Trực tiếp</a:t>
                      </a:r>
                      <a:r>
                        <a:rPr b="0" lang="en-US" sz="24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 - 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(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+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Arial"/>
                        </a:rPr>
                        <a:t>Khấu trừ</a:t>
                      </a:r>
                      <a:r>
                        <a:rPr b="0" lang="en-US" sz="1600" spc="-1" strike="noStrike">
                          <a:solidFill>
                            <a:srgbClr val="bbeae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úa mì  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ột mì 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ánh mì 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(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-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2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2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a69bb7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+t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cd2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3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c5a18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cd5364"/>
                          </a:solidFill>
                          <a:latin typeface="Times New Roman"/>
                        </a:rPr>
                        <a:t>(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28600" y="24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ffff"/>
                </a:solidFill>
                <a:latin typeface="Times New Roman"/>
              </a:rPr>
              <a:t>Miễn thu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DBE-A6BC-4761-8B42-B6016EA4D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59:38Z</dcterms:created>
  <dc:creator>DAN QUE</dc:creator>
  <dc:description/>
  <dc:language>en-US</dc:language>
  <cp:lastModifiedBy>User</cp:lastModifiedBy>
  <dcterms:modified xsi:type="dcterms:W3CDTF">2008-07-21T11:09:47Z</dcterms:modified>
  <cp:revision>174</cp:revision>
  <dc:subject/>
  <dc:title>THUẾ VAT: NGUYÊN LÝ</dc:title>
</cp:coreProperties>
</file>