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7033-B7B4-497F-BB06-8F6C82F78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6C3FA3-FF6E-41CD-BB7D-8D1CFDB53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223C08-9736-42B0-BB39-539AE2834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281C3D-09CE-4F28-ABF7-670A80228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974986-030C-48F1-BEAD-3055905A0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24B30-5AAE-441B-880A-0183112B6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775D2-4E04-48F6-BB37-B84490AA1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20D1E-515F-42ED-8883-91218F141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82041-F3C5-45F2-B044-27B2D3852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B947E-951F-4779-B641-D65D0BF02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81CBC-12C5-449C-8CDE-C0CBEA693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5B5C1-DAE1-4E13-A21B-DA77AD2EE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BE7943-1A15-4514-98F9-AD197297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29A6F-8517-4040-A27B-C5762FF1B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04CB0-61DF-404B-9DD1-EEC3EC80F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850CC-EA13-4E6A-84DC-9C7A50081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2D7FE-2AC5-45C2-9C2D-885B06043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122D8-2D0D-4827-968A-05931E272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F86940-A25E-4186-A810-DB6134022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C278FC-36E3-4D7A-8099-964624921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72136B-114E-40DC-8E47-04BCED1E8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4F3FC6-17C3-4696-9161-239ACBC7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CFE802-2FF9-4B61-8936-E3B55208D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8ECC5C-95B2-4E48-879C-B0D36DF7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AA705B-6918-444E-899F-FA18F2B88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2093-B6A3-4B1C-AA21-DF9CBD3004B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8063-CE38-42DA-9B99-78F52D22D23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07"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 NHẬP CHỊU THUẾ</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ANH THU</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 PHÍ HỢP LÝ</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26" name="PlaceHolder 2"/>
          <p:cNvSpPr>
            <a:spLocks noGrp="1"/>
          </p:cNvSpPr>
          <p:nvPr>
            <p:ph/>
          </p:nvPr>
        </p:nvSpPr>
        <p:spPr>
          <a:xfrm>
            <a:off x="0" y="1143000"/>
            <a:ext cx="9144000" cy="55627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 PHÍ HỢP LÝ</a:t>
            </a:r>
            <a:endParaRPr b="0" lang="en-US" sz="32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khoản chi phí hợp lý được trừ để tính thu nhập chịu thuế</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cho lao động nữ </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bảo hộ lao động</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bảo vệ CSKD, công tác phí</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ích nộp BHXH, BHYT, hỗ trợ hoạt động Đảng, Đoàn thể; trích nộp hình thành nguồn CPQL cấp trên và các quỹ của hiệp hội</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trả lãi vay</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ích dự phòng</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ợ cấp thôi việc</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tiêu thụ hàng hóa, dịch vụ</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28" name="PlaceHolder 2"/>
          <p:cNvSpPr>
            <a:spLocks noGrp="1"/>
          </p:cNvSpPr>
          <p:nvPr>
            <p:ph/>
          </p:nvPr>
        </p:nvSpPr>
        <p:spPr>
          <a:xfrm>
            <a:off x="0" y="1143000"/>
            <a:ext cx="9144000" cy="55627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 PHÍ HỢP LÝ</a:t>
            </a:r>
            <a:endParaRPr b="0" lang="en-US" sz="32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khoản chi phí hợp lý được trừ để tính thu nhập chịu thuế</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quảng cáo, tiếp thị, khuyến mãi, tiếp tân, khánh tiết, chi phí giao dịch, chi hoa hồng môi giới, chi hội nghị và các  theo tỷ lệ doanh thu của cơ sở thường trú tại VN so với </a:t>
            </a:r>
            <a:r>
              <a:rPr b="0" lang="en-US" sz="2400" spc="-1" strike="noStrike">
                <a:solidFill>
                  <a:srgbClr val="ffffff"/>
                </a:solidFill>
                <a:latin typeface="Arial"/>
                <a:ea typeface="Arial"/>
              </a:rPr>
              <a:t>∑doanh thu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09" name="PlaceHolder 2"/>
          <p:cNvSpPr>
            <a:spLocks noGrp="1"/>
          </p:cNvSpPr>
          <p:nvPr>
            <p:ph/>
          </p:nvPr>
        </p:nvSpPr>
        <p:spPr>
          <a:xfrm>
            <a:off x="0" y="1143000"/>
            <a:ext cx="9144000" cy="556272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 NHẬP CHỊU THUẾ</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 nhập chịu thuế trong kỳ được xác định:</a:t>
            </a:r>
            <a:endParaRPr b="0" lang="en-US" sz="2800" spc="-1" strike="noStrike">
              <a:solidFill>
                <a:srgbClr val="ffffff"/>
              </a:solidFill>
              <a:latin typeface="Garamond"/>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u nhập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DT để tính thu nhập</a:t>
            </a:r>
            <a:r>
              <a:rPr b="0" lang="en-US" sz="2000" spc="-1" strike="noStrike">
                <a:solidFill>
                  <a:srgbClr val="ffffcc"/>
                </a:solidFill>
                <a:latin typeface="Arial"/>
              </a:rPr>
              <a:t>	</a:t>
            </a:r>
            <a:r>
              <a:rPr b="0" lang="en-US" sz="2000" spc="-1" strike="noStrike">
                <a:solidFill>
                  <a:srgbClr val="ffffcc"/>
                </a:solidFill>
                <a:latin typeface="Arial"/>
              </a:rPr>
              <a:t>Chi phí</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Thu nhập</a:t>
            </a:r>
            <a:endParaRPr b="0" lang="en-US" sz="2000" spc="-1" strike="noStrike">
              <a:solidFill>
                <a:srgbClr val="ffffff"/>
              </a:solidFill>
              <a:latin typeface="Garamond"/>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hịu thuế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chịu thuế</a:t>
            </a:r>
            <a:r>
              <a:rPr b="0" lang="en-US" sz="2000" spc="-1" strike="noStrike">
                <a:solidFill>
                  <a:srgbClr val="ffffcc"/>
                </a:solidFill>
                <a:latin typeface="Arial"/>
              </a:rPr>
              <a:t>	</a:t>
            </a:r>
            <a:r>
              <a:rPr b="0" lang="en-US" sz="2000" spc="-1" strike="noStrike">
                <a:solidFill>
                  <a:srgbClr val="ffffcc"/>
                </a:solidFill>
                <a:latin typeface="Arial"/>
              </a:rPr>
              <a:t>-</a:t>
            </a:r>
            <a:r>
              <a:rPr b="0" lang="en-US" sz="2000" spc="-1" strike="noStrike">
                <a:solidFill>
                  <a:srgbClr val="ffffcc"/>
                </a:solidFill>
                <a:latin typeface="Arial"/>
              </a:rPr>
              <a:t>	</a:t>
            </a:r>
            <a:r>
              <a:rPr b="0" lang="en-US" sz="2000" spc="-1" strike="noStrike">
                <a:solidFill>
                  <a:srgbClr val="ffffcc"/>
                </a:solidFill>
                <a:latin typeface="Arial"/>
              </a:rPr>
              <a:t>hợp lý</a:t>
            </a:r>
            <a:r>
              <a:rPr b="0" lang="en-US" sz="2000" spc="-1" strike="noStrike">
                <a:solidFill>
                  <a:srgbClr val="ffffcc"/>
                </a:solidFill>
                <a:latin typeface="Arial"/>
              </a:rPr>
              <a:t>	</a:t>
            </a:r>
            <a:r>
              <a:rPr b="0" lang="en-US" sz="2000" spc="-1" strike="noStrike">
                <a:solidFill>
                  <a:srgbClr val="ffffcc"/>
                </a:solidFill>
                <a:latin typeface="Arial"/>
              </a:rPr>
              <a:t>+</a:t>
            </a:r>
            <a:r>
              <a:rPr b="0" lang="en-US" sz="2000" spc="-1" strike="noStrike">
                <a:solidFill>
                  <a:srgbClr val="ffffcc"/>
                </a:solidFill>
                <a:latin typeface="Arial"/>
              </a:rPr>
              <a:t>	</a:t>
            </a:r>
            <a:r>
              <a:rPr b="0" lang="en-US" sz="2000" spc="-1" strike="noStrike">
                <a:solidFill>
                  <a:srgbClr val="ffffcc"/>
                </a:solidFill>
                <a:latin typeface="Arial"/>
              </a:rPr>
              <a:t>chịu thuế khác</a:t>
            </a:r>
            <a:endParaRPr b="0" lang="en-US" sz="2000" spc="-1" strike="noStrike">
              <a:solidFill>
                <a:srgbClr val="ffffff"/>
              </a:solidFill>
              <a:latin typeface="Garamond"/>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rong kỳ tính thuế</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trong kỳ tính thuế</a:t>
            </a:r>
            <a:r>
              <a:rPr b="0" lang="en-US" sz="2000" spc="-1" strike="noStrike">
                <a:solidFill>
                  <a:srgbClr val="ffffcc"/>
                </a:solidFill>
                <a:latin typeface="Arial"/>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11" name="PlaceHolder 2"/>
          <p:cNvSpPr>
            <a:spLocks noGrp="1"/>
          </p:cNvSpPr>
          <p:nvPr>
            <p:ph/>
          </p:nvPr>
        </p:nvSpPr>
        <p:spPr>
          <a:xfrm>
            <a:off x="0" y="1143000"/>
            <a:ext cx="9144000" cy="556272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 NHẬP CHỊU THUẾ</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 nhập chịu thuế trong kỳ bao gồm:</a:t>
            </a:r>
            <a:endParaRPr b="0" lang="en-US" sz="28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 nhập chịu thuế của hoạt động sản xuất, kinh doanh, dịch vụ</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 nhập khác (kể cả thu nhập chịu thuế từ hoạt động sản xuất, kinh doanh, dịch vụ ở nước ngoài).</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1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ANH THU</a:t>
            </a:r>
            <a:endParaRPr b="0" lang="en-US" sz="28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ơ sở kinh doanh nộp thuế GTGT theo phương pháp khấu trừ: Doanh thu chưa bao gồm thuế GTGT</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ơ sở kinh doanh nộp thuế GTGT theo phương pháp trực tiếp: Doanh thu bao gồm thuế GTGT</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án trả góp: Giá bán hàng trả tiền một lần, không bao gồm lãi trả chậm </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ùng trao đổi, biếu, tặng, trang bị, thưởng cho người lao động: Giá bán của hàng hóa, dịch vụ tương đương cùng loại tại thời điểm phát sinh</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a công: Tiền thu về gia công bao gồm cả tiền công, nhiên liệu, động lực, vật liệu phụ và chi phí khác phục vụ gia công</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ại lý (bán đúng giá quy định): Tiền hoa hồng được hưởng</a:t>
            </a:r>
            <a:endParaRPr b="0" lang="en-US" sz="2400" spc="-1" strike="noStrike">
              <a:solidFill>
                <a:srgbClr val="ffffff"/>
              </a:solidFill>
              <a:latin typeface="Garamond"/>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1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ANH THU</a:t>
            </a:r>
            <a:endParaRPr b="0" lang="en-US" sz="28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 thuê tài sản: Số tiền thu từng kỳ theo hợp đồng</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1: Bên thuê trả tiền trước cho nhiều năm</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anh thu để tính thu nhập chịu thuế được xác định phù hợp với việc xác định chi phí của cơ sở kinh doanh, có thể lựa chọn 1 trong 2 phương pháp sau:</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ố tiền thuê / năm = DT trả tiền trước / Số năm trả tiền trước</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ố tiền thuê trả trước cho nhiều năm</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2: Cơ sở kinh doanh trong thời gian ưu đãi thuế &amp; bên thuê trả trước cho nhiều năm</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u nhập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ea typeface="Arial"/>
              </a:rPr>
              <a:t>∑thu nhập chịu thuế </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được miễn, =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x </a:t>
            </a:r>
            <a:r>
              <a:rPr b="0" lang="en-US" sz="2400" spc="-1" strike="noStrike">
                <a:solidFill>
                  <a:srgbClr val="ffcc00"/>
                </a:solidFill>
                <a:latin typeface="Arial"/>
                <a:ea typeface="Arial"/>
              </a:rPr>
              <a:t>Số năm được miễn giảm</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iảm </a:t>
            </a:r>
            <a:r>
              <a:rPr b="0" lang="en-US" sz="2400" spc="-1" strike="noStrike">
                <a:solidFill>
                  <a:srgbClr val="ffcc00"/>
                </a:solidFill>
                <a:latin typeface="Arial"/>
                <a:ea typeface="Arial"/>
              </a:rPr>
              <a:t> </a:t>
            </a:r>
            <a:r>
              <a:rPr b="0" lang="en-US" sz="2400" spc="-1" strike="noStrike">
                <a:solidFill>
                  <a:srgbClr val="ffcc00"/>
                </a:solidFill>
                <a:latin typeface="Arial"/>
                <a:ea typeface="Arial"/>
              </a:rPr>
              <a:t>	</a:t>
            </a:r>
            <a:r>
              <a:rPr b="0" lang="en-US" sz="2400" spc="-1" strike="noStrike">
                <a:solidFill>
                  <a:srgbClr val="ffcc00"/>
                </a:solidFill>
                <a:latin typeface="Arial"/>
                <a:ea typeface="Arial"/>
              </a:rPr>
              <a:t>  </a:t>
            </a:r>
            <a:r>
              <a:rPr b="0" lang="en-US" sz="2400" spc="-1" strike="noStrike">
                <a:solidFill>
                  <a:srgbClr val="ffcc00"/>
                </a:solidFill>
                <a:latin typeface="Arial"/>
                <a:ea typeface="Arial"/>
              </a:rPr>
              <a:t>	</a:t>
            </a:r>
            <a:r>
              <a:rPr b="0" lang="en-US" sz="2400" spc="-1" strike="noStrike">
                <a:solidFill>
                  <a:srgbClr val="ffcc00"/>
                </a:solidFill>
                <a:latin typeface="Arial"/>
                <a:ea typeface="Arial"/>
              </a:rPr>
              <a:t>  Số năm trả tiền trước</a:t>
            </a:r>
            <a:endParaRPr b="0" lang="en-US" sz="2400" spc="-1" strike="noStrike">
              <a:solidFill>
                <a:srgbClr val="ffffff"/>
              </a:solidFill>
              <a:latin typeface="Garamond"/>
            </a:endParaRPr>
          </a:p>
        </p:txBody>
      </p:sp>
      <p:sp>
        <p:nvSpPr>
          <p:cNvPr id="116" name=""/>
          <p:cNvSpPr/>
          <p:nvPr/>
        </p:nvSpPr>
        <p:spPr>
          <a:xfrm>
            <a:off x="2057400" y="5638680"/>
            <a:ext cx="281952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18"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ANH THU</a:t>
            </a:r>
            <a:endParaRPr b="0" lang="en-US" sz="28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 vay, thu lãi tiền gửi, thu nghiệp vụ cho thuê tài chính: Số lãi phải thu trong kỳ</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ận tải hàng không: Toàn bộ số tiền được hưởng từ việc vận chuyển (không phân biệt đã thu được tiền hay chưa)</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ạt động bán điện, thu cước điện thoại, kinh doanh nước sạch: Số tiền ghi trên hóa đơn GTGT</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ảo hiểm và tái bảo hiểm: Số tiền phải thu về phí bảo hiểm gốc, phí đại lý và giám định, phí nhận tái bảo hiểm, thu hoa hồng tái bảo hiểm và các khoản thu khác</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ợp đồng hợp tác kinh doanh theo hình thức chia sản phẩm:</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ại thị trường VN: Giá bán ghi trong hóa đơn</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K: Giá FOB</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20"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 PHÍ HỢP LÝ</a:t>
            </a:r>
            <a:endParaRPr b="0" lang="en-US" sz="32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uyên tắc xác định</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khoản chi phí hợp lý được trừ để tính thu nhập chịu thuế</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22"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 PHÍ HỢP LÝ</a:t>
            </a:r>
            <a:endParaRPr b="0" lang="en-US" sz="32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guyên tắc xác định</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có liên quan đến việc tạo ra thu nhập của doanh nghiệp (khoản chi phải liên quan đến doanh thu)</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mà doanh nghiệp thực sự có chi ra, có hóa đơn, chứng từ hợp pháp</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có mức trả hợp lý</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có tính thu nhập hơn là tính vốn (những khoản chi có liên quan đến cơ cấu vốn)</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phải phù hợp sản lượng tiêu thụ.</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320"/>
            <a:ext cx="82296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LUẬT THUẾ TNDN VN</a:t>
            </a:r>
            <a:endParaRPr b="1" lang="en-US" sz="4000" spc="-1" strike="noStrike">
              <a:solidFill>
                <a:srgbClr val="e5e5ff"/>
              </a:solidFill>
              <a:latin typeface="Garamond"/>
            </a:endParaRPr>
          </a:p>
        </p:txBody>
      </p:sp>
      <p:sp>
        <p:nvSpPr>
          <p:cNvPr id="124" name="PlaceHolder 2"/>
          <p:cNvSpPr>
            <a:spLocks noGrp="1"/>
          </p:cNvSpPr>
          <p:nvPr>
            <p:ph/>
          </p:nvPr>
        </p:nvSpPr>
        <p:spPr>
          <a:xfrm>
            <a:off x="0" y="1143000"/>
            <a:ext cx="9144000" cy="55627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 PHÍ HỢP LÝ</a:t>
            </a:r>
            <a:endParaRPr b="0" lang="en-US" sz="3200" spc="-1" strike="noStrike">
              <a:solidFill>
                <a:srgbClr val="ffffff"/>
              </a:solidFill>
              <a:latin typeface="Garamond"/>
            </a:endParaRPr>
          </a:p>
          <a:p>
            <a:pPr marL="609480" indent="-609480">
              <a:lnSpc>
                <a:spcPct val="100000"/>
              </a:lnSpc>
              <a:spcBef>
                <a:spcPts val="601"/>
              </a:spcBef>
              <a:buClr>
                <a:srgbClr val="ffcc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ác khoản chi phí hợp lý được trừ để tính thu nhập chịu thuế</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KH TSCĐ dùng cho hđ sxkd hàng hóa, dịch vụ</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NVL, nhiên liệu, năng lượng, hàng hóa thực tế sử dụng vào sxkd hàng hóa, dịch vụ liên quan đến DT, thu nhập chịu thuế trong kỳ được tính theo mức tiêu hao hợp lý, giá thực tế xuất kho do cơ sở tự xác định và chịu trách nhiệm trước PL</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ền lương, tiền công, phụ cấp, tiền ăn giữa ca, tiền ăn định lượng</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NCKH, công nghệ; sáng kiến, cải tiến; y tế, đào tạo lao động, tài trợ cho giáo dục</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phí mua ngoài</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2:58:47Z</dcterms:created>
  <dc:creator>User</dc:creator>
  <dc:description/>
  <dc:language>en-US</dc:language>
  <cp:lastModifiedBy>User</cp:lastModifiedBy>
  <dcterms:modified xsi:type="dcterms:W3CDTF">2008-07-28T02:54:41Z</dcterms:modified>
  <cp:revision>18</cp:revision>
  <dc:subject/>
  <dc:title>LUẬT THUẾ TNDN VN</dc:title>
</cp:coreProperties>
</file>