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AC5-D4D6-41C8-9BFF-4698ADCF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3A0-5476-4D8F-91C4-5E09A666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EF4-BAB9-4950-BF83-9CC3D2D9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53A-74BA-42A3-AB37-584F1F46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4A9-0E3A-422B-A4E9-588B302F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9F4-82A9-484D-A631-A21DFB75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251-8EC3-4661-A498-5FD9EAB5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75B-7959-415A-9801-744E58F1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1AC-CDC1-4221-BD4E-87F36390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1A2-AB0B-493D-9185-0E812139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065-A1ED-4630-BCF7-8A9A01B1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60C-9127-4AD8-8846-2B4C9A10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4E52-F74C-44E6-8D62-9070F3CA75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BÀI 2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TƯ TƯỞNG HỒ CHÍ MINH VỀ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ĐỘC LẬP DÂN TỘC GẮN LIỀN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VỚI CHỦ NGHĨA XÃ HỘI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0" y="3657600"/>
            <a:ext cx="9144000" cy="3886200"/>
            <a:chOff x="0" y="3657600"/>
            <a:chExt cx="9144000" cy="3886200"/>
          </a:xfrm>
        </p:grpSpPr>
        <p:pic>
          <p:nvPicPr>
            <p:cNvPr id="43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3657600"/>
              <a:ext cx="6019920" cy="31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7"/>
            <p:cNvSpPr/>
            <p:nvPr/>
          </p:nvSpPr>
          <p:spPr>
            <a:xfrm>
              <a:off x="4343400" y="5257800"/>
              <a:ext cx="480060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8"/>
          <p:cNvSpPr/>
          <p:nvPr/>
        </p:nvSpPr>
        <p:spPr>
          <a:xfrm>
            <a:off x="4419720" y="5562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. GVCC NGUYỄN VIỆT HÙ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ƯỞNG KHOA XÂY DỰNG ĐẢ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ƯỜNG CÁN BỘ TP. HỒ CHÍ MI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ối quan hệ biện chứng giữa ĐLDT với CNX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oup 10"/>
          <p:cNvGrpSpPr/>
          <p:nvPr/>
        </p:nvGrpSpPr>
        <p:grpSpPr>
          <a:xfrm>
            <a:off x="2382840" y="1603440"/>
            <a:ext cx="4359240" cy="5108400"/>
            <a:chOff x="2382840" y="1603440"/>
            <a:chExt cx="4359240" cy="5108400"/>
          </a:xfrm>
        </p:grpSpPr>
        <p:grpSp>
          <p:nvGrpSpPr>
            <p:cNvPr id="192" name="Group 4"/>
            <p:cNvGrpSpPr/>
            <p:nvPr/>
          </p:nvGrpSpPr>
          <p:grpSpPr>
            <a:xfrm>
              <a:off x="2382840" y="1603440"/>
              <a:ext cx="3710160" cy="2901600"/>
              <a:chOff x="2382840" y="1603440"/>
              <a:chExt cx="3710160" cy="2901600"/>
            </a:xfrm>
          </p:grpSpPr>
          <p:sp>
            <p:nvSpPr>
              <p:cNvPr id="193" name="Up Arrow 8"/>
              <p:cNvSpPr/>
              <p:nvPr/>
            </p:nvSpPr>
            <p:spPr>
              <a:xfrm rot="16200000">
                <a:off x="2787120" y="1199160"/>
                <a:ext cx="2901600" cy="3710160"/>
              </a:xfrm>
              <a:prstGeom prst="upArrow">
                <a:avLst>
                  <a:gd name="adj1" fmla="val 50000"/>
                  <a:gd name="adj2" fmla="val 44753"/>
                </a:avLst>
              </a:prstGeom>
              <a:solidFill>
                <a:srgbClr val="8064a2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Up Arrow 4"/>
              <p:cNvSpPr/>
              <p:nvPr/>
            </p:nvSpPr>
            <p:spPr>
              <a:xfrm>
                <a:off x="3031920" y="2328840"/>
                <a:ext cx="306108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41920" rIns="241920" tIns="241920" bIns="2419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88"/>
                  </a:spcAft>
                  <a:tabLst>
                    <a:tab algn="l" pos="0"/>
                    <a:tab algn="l" pos="1511280"/>
                    <a:tab algn="l" pos="3022560"/>
                    <a:tab algn="l" pos="4533840"/>
                    <a:tab algn="l" pos="6045120"/>
                    <a:tab algn="l" pos="7556400"/>
                    <a:tab algn="l" pos="9067680"/>
                    <a:tab algn="l" pos="1057896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Calibri"/>
                  </a:rPr>
                  <a:t>Độc lập dân tộc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"/>
            <p:cNvGrpSpPr/>
            <p:nvPr/>
          </p:nvGrpSpPr>
          <p:grpSpPr>
            <a:xfrm>
              <a:off x="3031920" y="3810240"/>
              <a:ext cx="3710160" cy="2901600"/>
              <a:chOff x="3031920" y="3810240"/>
              <a:chExt cx="3710160" cy="2901600"/>
            </a:xfrm>
          </p:grpSpPr>
          <p:sp>
            <p:nvSpPr>
              <p:cNvPr id="196" name="Up Arrow 6"/>
              <p:cNvSpPr/>
              <p:nvPr/>
            </p:nvSpPr>
            <p:spPr>
              <a:xfrm rot="5400000">
                <a:off x="3436200" y="3405960"/>
                <a:ext cx="2901600" cy="3710160"/>
              </a:xfrm>
              <a:prstGeom prst="upArrow">
                <a:avLst>
                  <a:gd name="adj1" fmla="val 50000"/>
                  <a:gd name="adj2" fmla="val 44753"/>
                </a:avLst>
              </a:prstGeom>
              <a:solidFill>
                <a:srgbClr val="4bacc6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Up Arrow 6"/>
              <p:cNvSpPr/>
              <p:nvPr/>
            </p:nvSpPr>
            <p:spPr>
              <a:xfrm>
                <a:off x="3031920" y="4535640"/>
                <a:ext cx="306108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41920" rIns="241920" tIns="241920" bIns="2419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88"/>
                  </a:spcAft>
                  <a:tabLst>
                    <a:tab algn="l" pos="0"/>
                    <a:tab algn="l" pos="1511280"/>
                    <a:tab algn="l" pos="3022560"/>
                    <a:tab algn="l" pos="4533840"/>
                    <a:tab algn="l" pos="6045120"/>
                    <a:tab algn="l" pos="7556400"/>
                    <a:tab algn="l" pos="9067680"/>
                    <a:tab algn="l" pos="1057896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Calibri"/>
                  </a:rPr>
                  <a:t>Chủ nghĩa xã hội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ối quan hệ biện chứng giữa ĐLDT với CNX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Group 25"/>
          <p:cNvGrpSpPr/>
          <p:nvPr/>
        </p:nvGrpSpPr>
        <p:grpSpPr>
          <a:xfrm>
            <a:off x="2160720" y="1212840"/>
            <a:ext cx="4495680" cy="5194440"/>
            <a:chOff x="2160720" y="1212840"/>
            <a:chExt cx="4495680" cy="5194440"/>
          </a:xfrm>
        </p:grpSpPr>
        <p:grpSp>
          <p:nvGrpSpPr>
            <p:cNvPr id="200" name="Group 19"/>
            <p:cNvGrpSpPr/>
            <p:nvPr/>
          </p:nvGrpSpPr>
          <p:grpSpPr>
            <a:xfrm>
              <a:off x="2160720" y="3505680"/>
              <a:ext cx="3636720" cy="2901600"/>
              <a:chOff x="2160720" y="3505680"/>
              <a:chExt cx="3636720" cy="2901600"/>
            </a:xfrm>
          </p:grpSpPr>
          <p:sp>
            <p:nvSpPr>
              <p:cNvPr id="201" name="Up Arrow 23"/>
              <p:cNvSpPr/>
              <p:nvPr/>
            </p:nvSpPr>
            <p:spPr>
              <a:xfrm rot="16200000">
                <a:off x="2528280" y="3138120"/>
                <a:ext cx="2901600" cy="3636720"/>
              </a:xfrm>
              <a:prstGeom prst="upArrow">
                <a:avLst>
                  <a:gd name="adj1" fmla="val 50000"/>
                  <a:gd name="adj2" fmla="val 43867"/>
                </a:avLst>
              </a:prstGeom>
              <a:solidFill>
                <a:srgbClr val="8064a2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Up Arrow 4"/>
              <p:cNvSpPr/>
              <p:nvPr/>
            </p:nvSpPr>
            <p:spPr>
              <a:xfrm>
                <a:off x="2797200" y="4231080"/>
                <a:ext cx="300024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41920" rIns="241920" tIns="241920" bIns="2419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88"/>
                  </a:spcAft>
                  <a:tabLst>
                    <a:tab algn="l" pos="0"/>
                    <a:tab algn="l" pos="1511280"/>
                    <a:tab algn="l" pos="3022560"/>
                    <a:tab algn="l" pos="4533840"/>
                    <a:tab algn="l" pos="6045120"/>
                    <a:tab algn="l" pos="7556400"/>
                    <a:tab algn="l" pos="9067680"/>
                    <a:tab algn="l" pos="1057896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Calibri"/>
                  </a:rPr>
                  <a:t>Độc lập dân tộc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20"/>
            <p:cNvGrpSpPr/>
            <p:nvPr/>
          </p:nvGrpSpPr>
          <p:grpSpPr>
            <a:xfrm>
              <a:off x="3019680" y="1212840"/>
              <a:ext cx="3636720" cy="2901600"/>
              <a:chOff x="3019680" y="1212840"/>
              <a:chExt cx="3636720" cy="2901600"/>
            </a:xfrm>
          </p:grpSpPr>
          <p:sp>
            <p:nvSpPr>
              <p:cNvPr id="204" name="Up Arrow 21"/>
              <p:cNvSpPr/>
              <p:nvPr/>
            </p:nvSpPr>
            <p:spPr>
              <a:xfrm rot="5400000">
                <a:off x="3387240" y="844920"/>
                <a:ext cx="2901600" cy="3636720"/>
              </a:xfrm>
              <a:prstGeom prst="upArrow">
                <a:avLst>
                  <a:gd name="adj1" fmla="val 50000"/>
                  <a:gd name="adj2" fmla="val 43867"/>
                </a:avLst>
              </a:prstGeom>
              <a:solidFill>
                <a:srgbClr val="4bacc6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Up Arrow 6"/>
              <p:cNvSpPr/>
              <p:nvPr/>
            </p:nvSpPr>
            <p:spPr>
              <a:xfrm>
                <a:off x="3019680" y="1938240"/>
                <a:ext cx="300024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41920" rIns="241920" tIns="241920" bIns="2419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88"/>
                  </a:spcAft>
                  <a:tabLst>
                    <a:tab algn="l" pos="0"/>
                    <a:tab algn="l" pos="1511280"/>
                    <a:tab algn="l" pos="3022560"/>
                    <a:tab algn="l" pos="4533840"/>
                    <a:tab algn="l" pos="6045120"/>
                    <a:tab algn="l" pos="7556400"/>
                    <a:tab algn="l" pos="9067680"/>
                    <a:tab algn="l" pos="1057896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Calibri"/>
                  </a:rPr>
                  <a:t>Chủ nghĩa xã hội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21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Điều kiện đảm bảo kết hợp giữa ĐLDT với CNX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458640" y="3065400"/>
            <a:ext cx="1795680" cy="789120"/>
            <a:chOff x="458640" y="3065400"/>
            <a:chExt cx="1795680" cy="789120"/>
          </a:xfrm>
        </p:grpSpPr>
        <p:sp>
          <p:nvSpPr>
            <p:cNvPr id="208" name="Rounded Rectangle 46"/>
            <p:cNvSpPr/>
            <p:nvPr/>
          </p:nvSpPr>
          <p:spPr>
            <a:xfrm>
              <a:off x="458640" y="3065400"/>
              <a:ext cx="1795680" cy="78912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ounded Rectangle 4"/>
            <p:cNvSpPr/>
            <p:nvPr/>
          </p:nvSpPr>
          <p:spPr>
            <a:xfrm>
              <a:off x="484920" y="3088440"/>
              <a:ext cx="174312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93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Điều kiệ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"/>
          <p:cNvGrpSpPr/>
          <p:nvPr/>
        </p:nvGrpSpPr>
        <p:grpSpPr>
          <a:xfrm>
            <a:off x="2281680" y="2315160"/>
            <a:ext cx="665640" cy="1153800"/>
            <a:chOff x="2281680" y="2315160"/>
            <a:chExt cx="665640" cy="1153800"/>
          </a:xfrm>
        </p:grpSpPr>
        <p:sp>
          <p:nvSpPr>
            <p:cNvPr id="211" name="Straight Connector 5"/>
            <p:cNvSpPr/>
            <p:nvPr/>
          </p:nvSpPr>
          <p:spPr>
            <a:xfrm rot="17945400">
              <a:off x="1964880" y="2872080"/>
              <a:ext cx="1298520" cy="39240"/>
            </a:xfrm>
            <a:custGeom>
              <a:avLst/>
              <a:gdLst>
                <a:gd name="textAreaLeft" fmla="*/ 0 w 1298520"/>
                <a:gd name="textAreaRight" fmla="*/ 1298520 w 129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93184" h="32124">
                  <a:moveTo>
                    <a:pt x="0" y="16062"/>
                  </a:moveTo>
                  <a:lnTo>
                    <a:pt x="1193184" y="16062"/>
                  </a:lnTo>
                </a:path>
              </a:pathLst>
            </a:custGeom>
            <a:noFill/>
            <a:ln w="2556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6"/>
            <p:cNvSpPr/>
            <p:nvPr/>
          </p:nvSpPr>
          <p:spPr>
            <a:xfrm rot="17945400">
              <a:off x="2581920" y="2855880"/>
              <a:ext cx="64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5"/>
          <p:cNvGrpSpPr/>
          <p:nvPr/>
        </p:nvGrpSpPr>
        <p:grpSpPr>
          <a:xfrm>
            <a:off x="2973240" y="1930320"/>
            <a:ext cx="1797120" cy="789120"/>
            <a:chOff x="2973240" y="1930320"/>
            <a:chExt cx="1797120" cy="789120"/>
          </a:xfrm>
        </p:grpSpPr>
        <p:sp>
          <p:nvSpPr>
            <p:cNvPr id="214" name="Rounded Rectangle 42"/>
            <p:cNvSpPr/>
            <p:nvPr/>
          </p:nvSpPr>
          <p:spPr>
            <a:xfrm>
              <a:off x="2973240" y="1930320"/>
              <a:ext cx="1797120" cy="789120"/>
            </a:xfrm>
            <a:prstGeom prst="roundRect">
              <a:avLst>
                <a:gd name="adj" fmla="val 10000"/>
              </a:avLst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ounded Rectangle 8"/>
            <p:cNvSpPr/>
            <p:nvPr/>
          </p:nvSpPr>
          <p:spPr>
            <a:xfrm>
              <a:off x="2999520" y="1953360"/>
              <a:ext cx="174456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93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Bên tro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4796640" y="1405080"/>
            <a:ext cx="664560" cy="931320"/>
            <a:chOff x="4796640" y="1405080"/>
            <a:chExt cx="664560" cy="931320"/>
          </a:xfrm>
        </p:grpSpPr>
        <p:sp>
          <p:nvSpPr>
            <p:cNvPr id="217" name="Straight Connector 9"/>
            <p:cNvSpPr/>
            <p:nvPr/>
          </p:nvSpPr>
          <p:spPr>
            <a:xfrm rot="18289200">
              <a:off x="4575600" y="1850760"/>
              <a:ext cx="1106640" cy="39960"/>
            </a:xfrm>
            <a:custGeom>
              <a:avLst/>
              <a:gdLst>
                <a:gd name="textAreaLeft" fmla="*/ 0 w 1106640"/>
                <a:gd name="textAreaRight" fmla="*/ 1107000 w 1106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016052" h="32124">
                  <a:moveTo>
                    <a:pt x="0" y="16062"/>
                  </a:moveTo>
                  <a:lnTo>
                    <a:pt x="1016052" y="16062"/>
                  </a:lnTo>
                </a:path>
              </a:pathLst>
            </a:custGeom>
            <a:noFill/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traight Connector 10"/>
            <p:cNvSpPr/>
            <p:nvPr/>
          </p:nvSpPr>
          <p:spPr>
            <a:xfrm rot="18289200">
              <a:off x="5101560" y="1838520"/>
              <a:ext cx="5508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8"/>
          <p:cNvGrpSpPr/>
          <p:nvPr/>
        </p:nvGrpSpPr>
        <p:grpSpPr>
          <a:xfrm>
            <a:off x="4811760" y="2319480"/>
            <a:ext cx="717480" cy="34920"/>
            <a:chOff x="4811760" y="2319480"/>
            <a:chExt cx="717480" cy="34920"/>
          </a:xfrm>
        </p:grpSpPr>
        <p:sp>
          <p:nvSpPr>
            <p:cNvPr id="220" name="Straight Connector 13"/>
            <p:cNvSpPr/>
            <p:nvPr/>
          </p:nvSpPr>
          <p:spPr>
            <a:xfrm>
              <a:off x="4811760" y="2319480"/>
              <a:ext cx="717480" cy="3492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80231" h="32124">
                  <a:moveTo>
                    <a:pt x="0" y="16062"/>
                  </a:moveTo>
                  <a:lnTo>
                    <a:pt x="580231" y="16062"/>
                  </a:lnTo>
                </a:path>
              </a:pathLst>
            </a:custGeom>
            <a:noFill/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traight Connector 14"/>
            <p:cNvSpPr/>
            <p:nvPr/>
          </p:nvSpPr>
          <p:spPr>
            <a:xfrm>
              <a:off x="5152680" y="2320920"/>
              <a:ext cx="3564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0"/>
          <p:cNvGrpSpPr/>
          <p:nvPr/>
        </p:nvGrpSpPr>
        <p:grpSpPr>
          <a:xfrm>
            <a:off x="4796280" y="2313360"/>
            <a:ext cx="664920" cy="931320"/>
            <a:chOff x="4796280" y="2313360"/>
            <a:chExt cx="664920" cy="931320"/>
          </a:xfrm>
        </p:grpSpPr>
        <p:sp>
          <p:nvSpPr>
            <p:cNvPr id="223" name="Straight Connector 17"/>
            <p:cNvSpPr/>
            <p:nvPr/>
          </p:nvSpPr>
          <p:spPr>
            <a:xfrm rot="3310200">
              <a:off x="4575240" y="2758680"/>
              <a:ext cx="1106640" cy="39960"/>
            </a:xfrm>
            <a:custGeom>
              <a:avLst/>
              <a:gdLst>
                <a:gd name="textAreaLeft" fmla="*/ 0 w 1106640"/>
                <a:gd name="textAreaRight" fmla="*/ 1107000 w 1106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016052" h="32124">
                  <a:moveTo>
                    <a:pt x="0" y="16062"/>
                  </a:moveTo>
                  <a:lnTo>
                    <a:pt x="1016052" y="16062"/>
                  </a:lnTo>
                </a:path>
              </a:pathLst>
            </a:custGeom>
            <a:noFill/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18"/>
            <p:cNvSpPr/>
            <p:nvPr/>
          </p:nvSpPr>
          <p:spPr>
            <a:xfrm rot="3310200">
              <a:off x="5101560" y="2746800"/>
              <a:ext cx="5508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2281320" y="3450600"/>
            <a:ext cx="665640" cy="1153800"/>
            <a:chOff x="2281320" y="3450600"/>
            <a:chExt cx="665640" cy="1153800"/>
          </a:xfrm>
        </p:grpSpPr>
        <p:sp>
          <p:nvSpPr>
            <p:cNvPr id="226" name="Straight Connector 21"/>
            <p:cNvSpPr/>
            <p:nvPr/>
          </p:nvSpPr>
          <p:spPr>
            <a:xfrm rot="3654000">
              <a:off x="1964520" y="4007520"/>
              <a:ext cx="1298520" cy="39240"/>
            </a:xfrm>
            <a:custGeom>
              <a:avLst/>
              <a:gdLst>
                <a:gd name="textAreaLeft" fmla="*/ 0 w 1298520"/>
                <a:gd name="textAreaRight" fmla="*/ 1298520 w 129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93184" h="32124">
                  <a:moveTo>
                    <a:pt x="0" y="16062"/>
                  </a:moveTo>
                  <a:lnTo>
                    <a:pt x="1193184" y="16062"/>
                  </a:lnTo>
                </a:path>
              </a:pathLst>
            </a:custGeom>
            <a:noFill/>
            <a:ln w="2556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traight Connector 22"/>
            <p:cNvSpPr/>
            <p:nvPr/>
          </p:nvSpPr>
          <p:spPr>
            <a:xfrm rot="3654000">
              <a:off x="2581560" y="3990600"/>
              <a:ext cx="648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3"/>
          <p:cNvGrpSpPr/>
          <p:nvPr/>
        </p:nvGrpSpPr>
        <p:grpSpPr>
          <a:xfrm>
            <a:off x="2973240" y="4199040"/>
            <a:ext cx="1797120" cy="790560"/>
            <a:chOff x="2973240" y="4199040"/>
            <a:chExt cx="1797120" cy="790560"/>
          </a:xfrm>
        </p:grpSpPr>
        <p:sp>
          <p:nvSpPr>
            <p:cNvPr id="229" name="Rounded Rectangle 26"/>
            <p:cNvSpPr/>
            <p:nvPr/>
          </p:nvSpPr>
          <p:spPr>
            <a:xfrm>
              <a:off x="2973240" y="4199040"/>
              <a:ext cx="1797120" cy="790560"/>
            </a:xfrm>
            <a:prstGeom prst="roundRect">
              <a:avLst>
                <a:gd name="adj" fmla="val 10000"/>
              </a:avLst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ounded Rectangle 24"/>
            <p:cNvSpPr/>
            <p:nvPr/>
          </p:nvSpPr>
          <p:spPr>
            <a:xfrm>
              <a:off x="2999520" y="4222080"/>
              <a:ext cx="17445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93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Bên ngoà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4"/>
          <p:cNvGrpSpPr/>
          <p:nvPr/>
        </p:nvGrpSpPr>
        <p:grpSpPr>
          <a:xfrm>
            <a:off x="4800600" y="4035960"/>
            <a:ext cx="740160" cy="545760"/>
            <a:chOff x="4800600" y="4035960"/>
            <a:chExt cx="740160" cy="545760"/>
          </a:xfrm>
        </p:grpSpPr>
        <p:sp>
          <p:nvSpPr>
            <p:cNvPr id="232" name="Straight Connector 25"/>
            <p:cNvSpPr/>
            <p:nvPr/>
          </p:nvSpPr>
          <p:spPr>
            <a:xfrm rot="19457400">
              <a:off x="4727520" y="4290840"/>
              <a:ext cx="885960" cy="3564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14556" h="32124">
                  <a:moveTo>
                    <a:pt x="0" y="16062"/>
                  </a:moveTo>
                  <a:lnTo>
                    <a:pt x="714556" y="16062"/>
                  </a:lnTo>
                </a:path>
              </a:pathLst>
            </a:custGeom>
            <a:noFill/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traight Connector 26"/>
            <p:cNvSpPr/>
            <p:nvPr/>
          </p:nvSpPr>
          <p:spPr>
            <a:xfrm rot="19457400">
              <a:off x="5148000" y="4289040"/>
              <a:ext cx="4428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6"/>
          <p:cNvGrpSpPr/>
          <p:nvPr/>
        </p:nvGrpSpPr>
        <p:grpSpPr>
          <a:xfrm>
            <a:off x="4759560" y="4548600"/>
            <a:ext cx="739440" cy="544680"/>
            <a:chOff x="4759560" y="4548600"/>
            <a:chExt cx="739440" cy="544680"/>
          </a:xfrm>
        </p:grpSpPr>
        <p:sp>
          <p:nvSpPr>
            <p:cNvPr id="235" name="Straight Connector 29"/>
            <p:cNvSpPr/>
            <p:nvPr/>
          </p:nvSpPr>
          <p:spPr>
            <a:xfrm rot="2142000">
              <a:off x="4686120" y="4803480"/>
              <a:ext cx="885600" cy="3456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14556" h="32124">
                  <a:moveTo>
                    <a:pt x="0" y="16062"/>
                  </a:moveTo>
                  <a:lnTo>
                    <a:pt x="714556" y="16062"/>
                  </a:lnTo>
                </a:path>
              </a:pathLst>
            </a:custGeom>
            <a:noFill/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traight Connector 30"/>
            <p:cNvSpPr/>
            <p:nvPr/>
          </p:nvSpPr>
          <p:spPr>
            <a:xfrm rot="2142000">
              <a:off x="5106600" y="4801680"/>
              <a:ext cx="4428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7"/>
          <p:cNvGrpSpPr/>
          <p:nvPr/>
        </p:nvGrpSpPr>
        <p:grpSpPr>
          <a:xfrm>
            <a:off x="5487840" y="1022400"/>
            <a:ext cx="2360880" cy="788760"/>
            <a:chOff x="5487840" y="1022400"/>
            <a:chExt cx="2360880" cy="788760"/>
          </a:xfrm>
        </p:grpSpPr>
        <p:sp>
          <p:nvSpPr>
            <p:cNvPr id="238" name="Rounded Rectangle 38"/>
            <p:cNvSpPr/>
            <p:nvPr/>
          </p:nvSpPr>
          <p:spPr>
            <a:xfrm>
              <a:off x="5487840" y="1022400"/>
              <a:ext cx="2360880" cy="7887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ounded Rectangle 12"/>
            <p:cNvSpPr/>
            <p:nvPr/>
          </p:nvSpPr>
          <p:spPr>
            <a:xfrm>
              <a:off x="5522400" y="1045440"/>
              <a:ext cx="229176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93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Đảng lãnh đạ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9"/>
          <p:cNvGrpSpPr/>
          <p:nvPr/>
        </p:nvGrpSpPr>
        <p:grpSpPr>
          <a:xfrm>
            <a:off x="5487840" y="1930320"/>
            <a:ext cx="2360880" cy="789120"/>
            <a:chOff x="5487840" y="1930320"/>
            <a:chExt cx="2360880" cy="789120"/>
          </a:xfrm>
        </p:grpSpPr>
        <p:sp>
          <p:nvSpPr>
            <p:cNvPr id="241" name="Rounded Rectangle 34"/>
            <p:cNvSpPr/>
            <p:nvPr/>
          </p:nvSpPr>
          <p:spPr>
            <a:xfrm>
              <a:off x="5487840" y="1930320"/>
              <a:ext cx="2360880" cy="7891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ounded Rectangle 16"/>
            <p:cNvSpPr/>
            <p:nvPr/>
          </p:nvSpPr>
          <p:spPr>
            <a:xfrm>
              <a:off x="5522400" y="1953360"/>
              <a:ext cx="229176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93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Liên minh công nông, MTDT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1"/>
          <p:cNvGrpSpPr/>
          <p:nvPr/>
        </p:nvGrpSpPr>
        <p:grpSpPr>
          <a:xfrm>
            <a:off x="5487840" y="2838600"/>
            <a:ext cx="2360880" cy="788760"/>
            <a:chOff x="5487840" y="2838600"/>
            <a:chExt cx="2360880" cy="788760"/>
          </a:xfrm>
        </p:grpSpPr>
        <p:sp>
          <p:nvSpPr>
            <p:cNvPr id="244" name="Rounded Rectangle 30"/>
            <p:cNvSpPr/>
            <p:nvPr/>
          </p:nvSpPr>
          <p:spPr>
            <a:xfrm>
              <a:off x="5487840" y="2838600"/>
              <a:ext cx="2360880" cy="7887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ounded Rectangle 20"/>
            <p:cNvSpPr/>
            <p:nvPr/>
          </p:nvSpPr>
          <p:spPr>
            <a:xfrm>
              <a:off x="5522400" y="2861640"/>
              <a:ext cx="229176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93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hính quyền cách m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5"/>
          <p:cNvGrpSpPr/>
          <p:nvPr/>
        </p:nvGrpSpPr>
        <p:grpSpPr>
          <a:xfrm>
            <a:off x="5487840" y="3745080"/>
            <a:ext cx="2360880" cy="790560"/>
            <a:chOff x="5487840" y="3745080"/>
            <a:chExt cx="2360880" cy="790560"/>
          </a:xfrm>
        </p:grpSpPr>
        <p:sp>
          <p:nvSpPr>
            <p:cNvPr id="247" name="Rounded Rectangle 22"/>
            <p:cNvSpPr/>
            <p:nvPr/>
          </p:nvSpPr>
          <p:spPr>
            <a:xfrm>
              <a:off x="5487840" y="3745080"/>
              <a:ext cx="2360880" cy="7905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ounded Rectangle 28"/>
            <p:cNvSpPr/>
            <p:nvPr/>
          </p:nvSpPr>
          <p:spPr>
            <a:xfrm>
              <a:off x="5522400" y="3768120"/>
              <a:ext cx="22917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93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h thủ sự ủng hộ Q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7"/>
          <p:cNvGrpSpPr/>
          <p:nvPr/>
        </p:nvGrpSpPr>
        <p:grpSpPr>
          <a:xfrm>
            <a:off x="5487840" y="4653000"/>
            <a:ext cx="2360880" cy="790560"/>
            <a:chOff x="5487840" y="4653000"/>
            <a:chExt cx="2360880" cy="790560"/>
          </a:xfrm>
        </p:grpSpPr>
        <p:sp>
          <p:nvSpPr>
            <p:cNvPr id="250" name="Rounded Rectangle 18"/>
            <p:cNvSpPr/>
            <p:nvPr/>
          </p:nvSpPr>
          <p:spPr>
            <a:xfrm>
              <a:off x="5487840" y="4653000"/>
              <a:ext cx="2360880" cy="7905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ounded Rectangle 32"/>
            <p:cNvSpPr/>
            <p:nvPr/>
          </p:nvSpPr>
          <p:spPr>
            <a:xfrm>
              <a:off x="5522400" y="4676040"/>
              <a:ext cx="22917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9360" bIns="93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Đóng góp vào sự nghiệp chung của CMT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50"/>
          <p:cNvSpPr/>
          <p:nvPr/>
        </p:nvSpPr>
        <p:spPr>
          <a:xfrm>
            <a:off x="1176120" y="5948280"/>
            <a:ext cx="716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Điều kiện bên trong là nhân tố quyết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4"/>
          <p:cNvSpPr/>
          <p:nvPr/>
        </p:nvSpPr>
        <p:spPr>
          <a:xfrm rot="10800000">
            <a:off x="2743200" y="1523160"/>
            <a:ext cx="5880240" cy="4496040"/>
          </a:xfrm>
          <a:prstGeom prst="rightArrow">
            <a:avLst>
              <a:gd name="adj1" fmla="val 79306"/>
              <a:gd name="adj2" fmla="val 32394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41148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0504d"/>
              </a:gs>
              <a:gs pos="100000">
                <a:srgbClr val="d3858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. Đổi mới là tiếp tục con đường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độc lập dân tộc gắn liền với CNX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41148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. Điều kiện mới của độc lập dân tộ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ắn liền với CNXH hiện n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1148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00ff"/>
              </a:gs>
              <a:gs pos="100000">
                <a:srgbClr val="4d4d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3. Nhiệm vụ chiến lược của c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ạng VN trong thời kỳ đổi mớ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457200" y="2286000"/>
            <a:ext cx="2209680" cy="2971800"/>
          </a:xfrm>
          <a:custGeom>
            <a:avLst/>
            <a:gdLst>
              <a:gd name="textAreaLeft" fmla="*/ 323640 w 2209680"/>
              <a:gd name="textAreaRight" fmla="*/ 1886040 w 2209680"/>
              <a:gd name="textAreaTop" fmla="*/ 323640 h 2971800"/>
              <a:gd name="textAreaBottom" fmla="*/ 2648160 h 2971800"/>
            </a:gdLst>
            <a:ahLst/>
            <a:rect l="textAreaLeft" t="textAreaTop" r="textAreaRight" b="textAreaBottom"/>
            <a:pathLst>
              <a:path w="21600" h="29049">
                <a:moveTo>
                  <a:pt x="10800" y="0"/>
                </a:moveTo>
                <a:arcTo wR="10800" hR="10800" stAng="16200000" swAng="-5400000"/>
                <a:lnTo>
                  <a:pt x="0" y="18249"/>
                </a:lnTo>
                <a:arcTo wR="10800" hR="10800" stAng="10800000" swAng="-5400000"/>
                <a:lnTo>
                  <a:pt x="10800" y="290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cc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ĐỘC LẬ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ÂN TỘ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ẮN LIỀN VỚ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Ủ NGHĨ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Ã H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ĐỔI MỚ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43"/>
          <p:cNvGrpSpPr/>
          <p:nvPr/>
        </p:nvGrpSpPr>
        <p:grpSpPr>
          <a:xfrm>
            <a:off x="609480" y="1828800"/>
            <a:ext cx="2513880" cy="4035600"/>
            <a:chOff x="609480" y="1828800"/>
            <a:chExt cx="2513880" cy="4035600"/>
          </a:xfrm>
        </p:grpSpPr>
        <p:sp>
          <p:nvSpPr>
            <p:cNvPr id="47" name="AutoShape 44"/>
            <p:cNvSpPr/>
            <p:nvPr/>
          </p:nvSpPr>
          <p:spPr>
            <a:xfrm>
              <a:off x="609480" y="2136600"/>
              <a:ext cx="2506680" cy="2857680"/>
            </a:xfrm>
            <a:custGeom>
              <a:avLst/>
              <a:gdLst>
                <a:gd name="textAreaLeft" fmla="*/ 128520 w 2506680"/>
                <a:gd name="textAreaRight" fmla="*/ 2378160 w 2506680"/>
                <a:gd name="textAreaTop" fmla="*/ 128520 h 2857680"/>
                <a:gd name="textAreaBottom" fmla="*/ 2729160 h 2857680"/>
              </a:gdLst>
              <a:ahLst/>
              <a:rect l="textAreaLeft" t="textAreaTop" r="textAreaRight" b="textAreaBottom"/>
              <a:pathLst>
                <a:path w="21600" h="24624">
                  <a:moveTo>
                    <a:pt x="3782" y="0"/>
                  </a:moveTo>
                  <a:arcTo wR="3782" hR="3782" stAng="16200000" swAng="-5400000"/>
                  <a:lnTo>
                    <a:pt x="0" y="20842"/>
                  </a:lnTo>
                  <a:arcTo wR="3782" hR="3782" stAng="10800000" swAng="-5400000"/>
                  <a:lnTo>
                    <a:pt x="17818" y="2462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45"/>
            <p:cNvSpPr/>
            <p:nvPr/>
          </p:nvSpPr>
          <p:spPr>
            <a:xfrm>
              <a:off x="648000" y="2144880"/>
              <a:ext cx="2431440" cy="2803320"/>
            </a:xfrm>
            <a:custGeom>
              <a:avLst/>
              <a:gdLst>
                <a:gd name="textAreaLeft" fmla="*/ 118440 w 2431440"/>
                <a:gd name="textAreaRight" fmla="*/ 2313000 w 2431440"/>
                <a:gd name="textAreaTop" fmla="*/ 118440 h 2803320"/>
                <a:gd name="textAreaBottom" fmla="*/ 2684880 h 2803320"/>
              </a:gdLst>
              <a:ahLst/>
              <a:rect l="textAreaLeft" t="textAreaTop" r="textAreaRight" b="textAreaBottom"/>
              <a:pathLst>
                <a:path w="21600" h="24903">
                  <a:moveTo>
                    <a:pt x="3600" y="0"/>
                  </a:moveTo>
                  <a:arcTo wR="3600" hR="3600" stAng="16200000" swAng="-5400000"/>
                  <a:lnTo>
                    <a:pt x="0" y="21303"/>
                  </a:lnTo>
                  <a:arcTo wR="3600" hR="3600" stAng="10800000" swAng="-5400000"/>
                  <a:lnTo>
                    <a:pt x="18000" y="249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46"/>
            <p:cNvSpPr/>
            <p:nvPr/>
          </p:nvSpPr>
          <p:spPr>
            <a:xfrm>
              <a:off x="668160" y="4208400"/>
              <a:ext cx="239832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7"/>
            <p:cNvSpPr/>
            <p:nvPr/>
          </p:nvSpPr>
          <p:spPr>
            <a:xfrm>
              <a:off x="668160" y="2166840"/>
              <a:ext cx="239832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48"/>
            <p:cNvSpPr/>
            <p:nvPr/>
          </p:nvSpPr>
          <p:spPr>
            <a:xfrm>
              <a:off x="616680" y="4994280"/>
              <a:ext cx="250668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49"/>
            <p:cNvSpPr/>
            <p:nvPr/>
          </p:nvSpPr>
          <p:spPr>
            <a:xfrm>
              <a:off x="668160" y="5018040"/>
              <a:ext cx="239832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0"/>
            <p:cNvGrpSpPr/>
            <p:nvPr/>
          </p:nvGrpSpPr>
          <p:grpSpPr>
            <a:xfrm>
              <a:off x="1472040" y="1828800"/>
              <a:ext cx="744840" cy="642960"/>
              <a:chOff x="1472040" y="1828800"/>
              <a:chExt cx="744840" cy="642960"/>
            </a:xfrm>
          </p:grpSpPr>
          <p:sp>
            <p:nvSpPr>
              <p:cNvPr id="54" name="Oval 51"/>
              <p:cNvSpPr/>
              <p:nvPr/>
            </p:nvSpPr>
            <p:spPr>
              <a:xfrm>
                <a:off x="1472040" y="1828800"/>
                <a:ext cx="74484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52"/>
              <p:cNvSpPr/>
              <p:nvPr/>
            </p:nvSpPr>
            <p:spPr>
              <a:xfrm>
                <a:off x="1479600" y="1833480"/>
                <a:ext cx="72036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53"/>
              <p:cNvSpPr/>
              <p:nvPr/>
            </p:nvSpPr>
            <p:spPr>
              <a:xfrm>
                <a:off x="1488600" y="1837440"/>
                <a:ext cx="70344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54"/>
              <p:cNvSpPr/>
              <p:nvPr/>
            </p:nvSpPr>
            <p:spPr>
              <a:xfrm>
                <a:off x="1496520" y="1843200"/>
                <a:ext cx="66888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55"/>
              <p:cNvSpPr/>
              <p:nvPr/>
            </p:nvSpPr>
            <p:spPr>
              <a:xfrm>
                <a:off x="1535400" y="1858680"/>
                <a:ext cx="594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 Box 56"/>
            <p:cNvSpPr/>
            <p:nvPr/>
          </p:nvSpPr>
          <p:spPr>
            <a:xfrm>
              <a:off x="1696320" y="18702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57"/>
            <p:cNvSpPr/>
            <p:nvPr/>
          </p:nvSpPr>
          <p:spPr>
            <a:xfrm>
              <a:off x="697680" y="2590920"/>
              <a:ext cx="2383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ĐỘC LẬP DÂN TỘC GẮN LIỀN VỚI CNXH LÀ SỰ LỰA CHỌN CỦA LỊCH SỬ XÃ HỘI V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58"/>
          <p:cNvGrpSpPr/>
          <p:nvPr/>
        </p:nvGrpSpPr>
        <p:grpSpPr>
          <a:xfrm>
            <a:off x="3276720" y="1828800"/>
            <a:ext cx="2547360" cy="4035600"/>
            <a:chOff x="3276720" y="1828800"/>
            <a:chExt cx="2547360" cy="4035600"/>
          </a:xfrm>
        </p:grpSpPr>
        <p:sp>
          <p:nvSpPr>
            <p:cNvPr id="62" name="AutoShape 59"/>
            <p:cNvSpPr/>
            <p:nvPr/>
          </p:nvSpPr>
          <p:spPr>
            <a:xfrm>
              <a:off x="3276720" y="2136600"/>
              <a:ext cx="2543760" cy="2857680"/>
            </a:xfrm>
            <a:custGeom>
              <a:avLst/>
              <a:gdLst>
                <a:gd name="textAreaLeft" fmla="*/ 130320 w 2543760"/>
                <a:gd name="textAreaRight" fmla="*/ 2413440 w 2543760"/>
                <a:gd name="textAreaTop" fmla="*/ 130320 h 2857680"/>
                <a:gd name="textAreaBottom" fmla="*/ 2727360 h 2857680"/>
              </a:gdLst>
              <a:ahLst/>
              <a:rect l="textAreaLeft" t="textAreaTop" r="textAreaRight" b="textAreaBottom"/>
              <a:pathLst>
                <a:path w="21600" h="24265">
                  <a:moveTo>
                    <a:pt x="3782" y="0"/>
                  </a:moveTo>
                  <a:arcTo wR="3782" hR="3782" stAng="16200000" swAng="-5400000"/>
                  <a:lnTo>
                    <a:pt x="0" y="20483"/>
                  </a:lnTo>
                  <a:arcTo wR="3782" hR="3782" stAng="10800000" swAng="-5400000"/>
                  <a:lnTo>
                    <a:pt x="17818" y="2426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60"/>
            <p:cNvSpPr/>
            <p:nvPr/>
          </p:nvSpPr>
          <p:spPr>
            <a:xfrm>
              <a:off x="3315600" y="2144880"/>
              <a:ext cx="2467440" cy="2803320"/>
            </a:xfrm>
            <a:custGeom>
              <a:avLst/>
              <a:gdLst>
                <a:gd name="textAreaLeft" fmla="*/ 120240 w 2467440"/>
                <a:gd name="textAreaRight" fmla="*/ 2347200 w 2467440"/>
                <a:gd name="textAreaTop" fmla="*/ 120240 h 2803320"/>
                <a:gd name="textAreaBottom" fmla="*/ 2683080 h 2803320"/>
              </a:gdLst>
              <a:ahLst/>
              <a:rect l="textAreaLeft" t="textAreaTop" r="textAreaRight" b="textAreaBottom"/>
              <a:pathLst>
                <a:path w="21600" h="24540">
                  <a:moveTo>
                    <a:pt x="3600" y="0"/>
                  </a:moveTo>
                  <a:arcTo wR="3600" hR="3600" stAng="16200000" swAng="-5400000"/>
                  <a:lnTo>
                    <a:pt x="0" y="20940"/>
                  </a:lnTo>
                  <a:arcTo wR="3600" hR="3600" stAng="10800000" swAng="-5400000"/>
                  <a:lnTo>
                    <a:pt x="18000" y="245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61"/>
            <p:cNvSpPr/>
            <p:nvPr/>
          </p:nvSpPr>
          <p:spPr>
            <a:xfrm>
              <a:off x="3336120" y="4208400"/>
              <a:ext cx="24336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62"/>
            <p:cNvSpPr/>
            <p:nvPr/>
          </p:nvSpPr>
          <p:spPr>
            <a:xfrm>
              <a:off x="3336120" y="2166840"/>
              <a:ext cx="24336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3"/>
            <p:cNvSpPr/>
            <p:nvPr/>
          </p:nvSpPr>
          <p:spPr>
            <a:xfrm>
              <a:off x="4151880" y="1828800"/>
              <a:ext cx="75564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4"/>
            <p:cNvSpPr/>
            <p:nvPr/>
          </p:nvSpPr>
          <p:spPr>
            <a:xfrm>
              <a:off x="4159080" y="1833480"/>
              <a:ext cx="73152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65"/>
            <p:cNvSpPr/>
            <p:nvPr/>
          </p:nvSpPr>
          <p:spPr>
            <a:xfrm>
              <a:off x="4168800" y="1836720"/>
              <a:ext cx="7142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66"/>
            <p:cNvSpPr/>
            <p:nvPr/>
          </p:nvSpPr>
          <p:spPr>
            <a:xfrm>
              <a:off x="4176000" y="1843200"/>
              <a:ext cx="67932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67"/>
            <p:cNvSpPr/>
            <p:nvPr/>
          </p:nvSpPr>
          <p:spPr>
            <a:xfrm>
              <a:off x="4217040" y="1859040"/>
              <a:ext cx="60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8"/>
            <p:cNvSpPr/>
            <p:nvPr/>
          </p:nvSpPr>
          <p:spPr>
            <a:xfrm>
              <a:off x="4331880" y="187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69"/>
            <p:cNvSpPr/>
            <p:nvPr/>
          </p:nvSpPr>
          <p:spPr>
            <a:xfrm>
              <a:off x="3366000" y="2590920"/>
              <a:ext cx="24188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ỘI DUNG CƠ BẢN TRONG TTHCM VỀ ĐỘC LẬP DÂN TỘC  GẮN LIỀN VỚI CNX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70"/>
            <p:cNvSpPr/>
            <p:nvPr/>
          </p:nvSpPr>
          <p:spPr>
            <a:xfrm>
              <a:off x="3279960" y="4994280"/>
              <a:ext cx="254412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>
              <a:off x="3332520" y="5018040"/>
              <a:ext cx="24336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72"/>
          <p:cNvGrpSpPr/>
          <p:nvPr/>
        </p:nvGrpSpPr>
        <p:grpSpPr>
          <a:xfrm>
            <a:off x="5943600" y="1828800"/>
            <a:ext cx="2514240" cy="4035600"/>
            <a:chOff x="5943600" y="1828800"/>
            <a:chExt cx="2514240" cy="4035600"/>
          </a:xfrm>
        </p:grpSpPr>
        <p:sp>
          <p:nvSpPr>
            <p:cNvPr id="76" name="AutoShape 73"/>
            <p:cNvSpPr/>
            <p:nvPr/>
          </p:nvSpPr>
          <p:spPr>
            <a:xfrm>
              <a:off x="5950440" y="2136600"/>
              <a:ext cx="2507400" cy="2857680"/>
            </a:xfrm>
            <a:custGeom>
              <a:avLst/>
              <a:gdLst>
                <a:gd name="textAreaLeft" fmla="*/ 128520 w 2507400"/>
                <a:gd name="textAreaRight" fmla="*/ 2378880 w 2507400"/>
                <a:gd name="textAreaTop" fmla="*/ 128520 h 2857680"/>
                <a:gd name="textAreaBottom" fmla="*/ 2729160 h 2857680"/>
              </a:gdLst>
              <a:ahLst/>
              <a:rect l="textAreaLeft" t="textAreaTop" r="textAreaRight" b="textAreaBottom"/>
              <a:pathLst>
                <a:path w="21600" h="24617">
                  <a:moveTo>
                    <a:pt x="3782" y="0"/>
                  </a:moveTo>
                  <a:arcTo wR="3782" hR="3782" stAng="16200000" swAng="-5400000"/>
                  <a:lnTo>
                    <a:pt x="0" y="20835"/>
                  </a:lnTo>
                  <a:arcTo wR="3782" hR="3782" stAng="10800000" swAng="-5400000"/>
                  <a:lnTo>
                    <a:pt x="17818" y="2461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74"/>
            <p:cNvSpPr/>
            <p:nvPr/>
          </p:nvSpPr>
          <p:spPr>
            <a:xfrm>
              <a:off x="5989320" y="2144880"/>
              <a:ext cx="2431800" cy="2803320"/>
            </a:xfrm>
            <a:custGeom>
              <a:avLst/>
              <a:gdLst>
                <a:gd name="textAreaLeft" fmla="*/ 118440 w 2431800"/>
                <a:gd name="textAreaRight" fmla="*/ 2313360 w 2431800"/>
                <a:gd name="textAreaTop" fmla="*/ 118440 h 2803320"/>
                <a:gd name="textAreaBottom" fmla="*/ 2684880 h 2803320"/>
              </a:gdLst>
              <a:ahLst/>
              <a:rect l="textAreaLeft" t="textAreaTop" r="textAreaRight" b="textAreaBottom"/>
              <a:pathLst>
                <a:path w="21600" h="24899">
                  <a:moveTo>
                    <a:pt x="3600" y="0"/>
                  </a:moveTo>
                  <a:arcTo wR="3600" hR="3600" stAng="16200000" swAng="-5400000"/>
                  <a:lnTo>
                    <a:pt x="0" y="21299"/>
                  </a:lnTo>
                  <a:arcTo wR="3600" hR="3600" stAng="10800000" swAng="-5400000"/>
                  <a:lnTo>
                    <a:pt x="18000" y="248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75"/>
            <p:cNvSpPr/>
            <p:nvPr/>
          </p:nvSpPr>
          <p:spPr>
            <a:xfrm>
              <a:off x="6009480" y="4208400"/>
              <a:ext cx="239868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76"/>
            <p:cNvSpPr/>
            <p:nvPr/>
          </p:nvSpPr>
          <p:spPr>
            <a:xfrm>
              <a:off x="6009480" y="2166840"/>
              <a:ext cx="23986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77"/>
            <p:cNvGrpSpPr/>
            <p:nvPr/>
          </p:nvGrpSpPr>
          <p:grpSpPr>
            <a:xfrm>
              <a:off x="6813000" y="1828800"/>
              <a:ext cx="744840" cy="642960"/>
              <a:chOff x="6813000" y="1828800"/>
              <a:chExt cx="744840" cy="642960"/>
            </a:xfrm>
          </p:grpSpPr>
          <p:sp>
            <p:nvSpPr>
              <p:cNvPr id="81" name="Oval 78"/>
              <p:cNvSpPr/>
              <p:nvPr/>
            </p:nvSpPr>
            <p:spPr>
              <a:xfrm>
                <a:off x="6813000" y="1828800"/>
                <a:ext cx="74484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79"/>
              <p:cNvSpPr/>
              <p:nvPr/>
            </p:nvSpPr>
            <p:spPr>
              <a:xfrm>
                <a:off x="6820560" y="1833480"/>
                <a:ext cx="72036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80"/>
              <p:cNvSpPr/>
              <p:nvPr/>
            </p:nvSpPr>
            <p:spPr>
              <a:xfrm>
                <a:off x="6829560" y="1837440"/>
                <a:ext cx="70344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81"/>
              <p:cNvSpPr/>
              <p:nvPr/>
            </p:nvSpPr>
            <p:spPr>
              <a:xfrm>
                <a:off x="6837480" y="1843200"/>
                <a:ext cx="66888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82"/>
              <p:cNvSpPr/>
              <p:nvPr/>
            </p:nvSpPr>
            <p:spPr>
              <a:xfrm>
                <a:off x="6876360" y="1858680"/>
                <a:ext cx="594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Text Box 83"/>
            <p:cNvSpPr/>
            <p:nvPr/>
          </p:nvSpPr>
          <p:spPr>
            <a:xfrm>
              <a:off x="6937200" y="18702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4"/>
            <p:cNvSpPr/>
            <p:nvPr/>
          </p:nvSpPr>
          <p:spPr>
            <a:xfrm>
              <a:off x="6039000" y="2590920"/>
              <a:ext cx="23839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ĐỘC LẬP DÂN TỘC GẮN LIỀN VỚI CHỦ NGHĨA XÃ HỘI  TRONG ĐỔI MỚ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85"/>
            <p:cNvSpPr/>
            <p:nvPr/>
          </p:nvSpPr>
          <p:spPr>
            <a:xfrm>
              <a:off x="5943600" y="4994280"/>
              <a:ext cx="250668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86"/>
            <p:cNvSpPr/>
            <p:nvPr/>
          </p:nvSpPr>
          <p:spPr>
            <a:xfrm>
              <a:off x="5994720" y="5018040"/>
              <a:ext cx="239832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ỘI D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7"/>
          <p:cNvSpPr/>
          <p:nvPr/>
        </p:nvSpPr>
        <p:spPr>
          <a:xfrm>
            <a:off x="428760" y="3586320"/>
            <a:ext cx="1800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4110120" y="3684600"/>
            <a:ext cx="196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0"/>
          <p:cNvSpPr/>
          <p:nvPr/>
        </p:nvSpPr>
        <p:spPr>
          <a:xfrm>
            <a:off x="2392200" y="3881520"/>
            <a:ext cx="1717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0"/>
          <p:cNvSpPr/>
          <p:nvPr/>
        </p:nvSpPr>
        <p:spPr>
          <a:xfrm>
            <a:off x="5450040" y="2811600"/>
            <a:ext cx="2751120" cy="342720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3427200"/>
              <a:gd name="textAreaBottom" fmla="*/ 3427560 h 34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d3858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1"/>
          <p:cNvSpPr/>
          <p:nvPr/>
        </p:nvSpPr>
        <p:spPr>
          <a:xfrm>
            <a:off x="3143160" y="2811600"/>
            <a:ext cx="2900520" cy="3427200"/>
          </a:xfrm>
          <a:custGeom>
            <a:avLst/>
            <a:gdLst>
              <a:gd name="textAreaLeft" fmla="*/ 0 w 2900520"/>
              <a:gd name="textAreaRight" fmla="*/ 2900520 w 2900520"/>
              <a:gd name="textAreaTop" fmla="*/ 0 h 3427200"/>
              <a:gd name="textAreaBottom" fmla="*/ 3427560 h 34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6" y="0"/>
                </a:lnTo>
                <a:lnTo>
                  <a:pt x="21600" y="10800"/>
                </a:lnTo>
                <a:lnTo>
                  <a:pt x="17746" y="21600"/>
                </a:lnTo>
                <a:lnTo>
                  <a:pt x="0" y="21600"/>
                </a:lnTo>
                <a:lnTo>
                  <a:pt x="3854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4d4dff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2"/>
          <p:cNvSpPr/>
          <p:nvPr/>
        </p:nvSpPr>
        <p:spPr>
          <a:xfrm>
            <a:off x="838080" y="2811600"/>
            <a:ext cx="2900520" cy="3427200"/>
          </a:xfrm>
          <a:custGeom>
            <a:avLst/>
            <a:gdLst>
              <a:gd name="textAreaLeft" fmla="*/ 0 w 2900520"/>
              <a:gd name="textAreaRight" fmla="*/ 2900520 w 2900520"/>
              <a:gd name="textAreaTop" fmla="*/ 0 h 3427200"/>
              <a:gd name="textAreaBottom" fmla="*/ 3427560 h 34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6" y="0"/>
                </a:lnTo>
                <a:lnTo>
                  <a:pt x="21600" y="10800"/>
                </a:lnTo>
                <a:lnTo>
                  <a:pt x="17746" y="21600"/>
                </a:lnTo>
                <a:lnTo>
                  <a:pt x="0" y="21600"/>
                </a:lnTo>
                <a:lnTo>
                  <a:pt x="3854" y="108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3"/>
          <p:cNvSpPr/>
          <p:nvPr/>
        </p:nvSpPr>
        <p:spPr>
          <a:xfrm>
            <a:off x="1060560" y="1819440"/>
            <a:ext cx="2008080" cy="6793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4"/>
          <p:cNvSpPr/>
          <p:nvPr/>
        </p:nvSpPr>
        <p:spPr>
          <a:xfrm>
            <a:off x="3324240" y="1819440"/>
            <a:ext cx="2008080" cy="679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ff"/>
              </a:gs>
              <a:gs pos="100000">
                <a:srgbClr val="4d4d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5"/>
          <p:cNvSpPr/>
          <p:nvPr/>
        </p:nvSpPr>
        <p:spPr>
          <a:xfrm>
            <a:off x="5597640" y="1819440"/>
            <a:ext cx="2008080" cy="679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504d"/>
              </a:gs>
              <a:gs pos="100000">
                <a:srgbClr val="d3858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6"/>
          <p:cNvSpPr/>
          <p:nvPr/>
        </p:nvSpPr>
        <p:spPr>
          <a:xfrm>
            <a:off x="1328760" y="3390840"/>
            <a:ext cx="20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Đòi hỏ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hách q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ủa CM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ừ đầu th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ỷ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7"/>
          <p:cNvSpPr/>
          <p:nvPr/>
        </p:nvSpPr>
        <p:spPr>
          <a:xfrm>
            <a:off x="3701880" y="3390840"/>
            <a:ext cx="17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nh nghiệm cách mạng thế gi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8"/>
          <p:cNvSpPr/>
          <p:nvPr/>
        </p:nvSpPr>
        <p:spPr>
          <a:xfrm>
            <a:off x="5910120" y="3095640"/>
            <a:ext cx="196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ủ nghĩ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ác – Lên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i đườ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o c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ạng 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723960" y="704880"/>
            <a:ext cx="777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. ĐỘC LẬP DÂN TỘC GẮN LIỀN VỚI CNXH LÀ SỰ LỰA CHỌN CỦA LỊCH SỬ XÃ HỘI 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Diagram 3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4"/>
          <p:cNvGrpSpPr/>
          <p:nvPr/>
        </p:nvGrpSpPr>
        <p:grpSpPr>
          <a:xfrm>
            <a:off x="914400" y="762120"/>
            <a:ext cx="7620120" cy="1577880"/>
            <a:chOff x="914400" y="762120"/>
            <a:chExt cx="7620120" cy="1577880"/>
          </a:xfrm>
        </p:grpSpPr>
        <p:sp>
          <p:nvSpPr>
            <p:cNvPr id="106" name="Rectangle 15"/>
            <p:cNvSpPr/>
            <p:nvPr/>
          </p:nvSpPr>
          <p:spPr>
            <a:xfrm>
              <a:off x="914400" y="762120"/>
              <a:ext cx="7620120" cy="1577880"/>
            </a:xfrm>
            <a:prstGeom prst="rect">
              <a:avLst/>
            </a:prstGeom>
            <a:solidFill>
              <a:srgbClr val="47a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14400" y="762120"/>
              <a:ext cx="7620120" cy="15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II. NỘI DUNG CƠ BẢN TRONG TTHCM VỀ ĐỘC LẬP DÂN TỘC  GẮN LIỀN VỚI CNX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949320" y="2306520"/>
            <a:ext cx="2536920" cy="3311640"/>
            <a:chOff x="949320" y="2306520"/>
            <a:chExt cx="2536920" cy="3311640"/>
          </a:xfrm>
        </p:grpSpPr>
        <p:sp>
          <p:nvSpPr>
            <p:cNvPr id="109" name="Rectangle 13"/>
            <p:cNvSpPr/>
            <p:nvPr/>
          </p:nvSpPr>
          <p:spPr>
            <a:xfrm>
              <a:off x="949320" y="2306520"/>
              <a:ext cx="2536920" cy="3311640"/>
            </a:xfrm>
            <a:prstGeom prst="rect">
              <a:avLst/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949320" y="2306520"/>
              <a:ext cx="253692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Calibri"/>
                </a:rPr>
                <a:t>1. Về ĐLDT, về CMGPDT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6"/>
          <p:cNvGrpSpPr/>
          <p:nvPr/>
        </p:nvGrpSpPr>
        <p:grpSpPr>
          <a:xfrm>
            <a:off x="3486240" y="2306520"/>
            <a:ext cx="2536560" cy="3311640"/>
            <a:chOff x="3486240" y="2306520"/>
            <a:chExt cx="2536560" cy="3311640"/>
          </a:xfrm>
        </p:grpSpPr>
        <p:sp>
          <p:nvSpPr>
            <p:cNvPr id="112" name="Rectangle 11"/>
            <p:cNvSpPr/>
            <p:nvPr/>
          </p:nvSpPr>
          <p:spPr>
            <a:xfrm>
              <a:off x="3486240" y="2306520"/>
              <a:ext cx="2536560" cy="3311640"/>
            </a:xfrm>
            <a:prstGeom prst="rect">
              <a:avLst/>
            </a:prstGeom>
            <a:solidFill>
              <a:srgbClr val="60e1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3486240" y="2306520"/>
              <a:ext cx="25365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Calibri"/>
                </a:rPr>
                <a:t>2. Về CNXH, về CMXHC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7"/>
          <p:cNvGrpSpPr/>
          <p:nvPr/>
        </p:nvGrpSpPr>
        <p:grpSpPr>
          <a:xfrm>
            <a:off x="5992920" y="2340000"/>
            <a:ext cx="2538360" cy="3311640"/>
            <a:chOff x="5992920" y="2340000"/>
            <a:chExt cx="2538360" cy="3311640"/>
          </a:xfrm>
        </p:grpSpPr>
        <p:sp>
          <p:nvSpPr>
            <p:cNvPr id="115" name="Rectangle 9"/>
            <p:cNvSpPr/>
            <p:nvPr/>
          </p:nvSpPr>
          <p:spPr>
            <a:xfrm>
              <a:off x="5992920" y="2340000"/>
              <a:ext cx="2538360" cy="331164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5992920" y="2340000"/>
              <a:ext cx="25383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Calibri"/>
                </a:rPr>
                <a:t>3. Về MQHBC giữa ĐLDT và CNXH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8"/>
          <p:cNvSpPr/>
          <p:nvPr/>
        </p:nvSpPr>
        <p:spPr>
          <a:xfrm>
            <a:off x="914400" y="5651640"/>
            <a:ext cx="7620120" cy="368280"/>
          </a:xfrm>
          <a:prstGeom prst="rect">
            <a:avLst/>
          </a:prstGeom>
          <a:solidFill>
            <a:srgbClr val="47a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1. Về độc lập dân tộ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Bent-Up Arrow 3"/>
          <p:cNvSpPr/>
          <p:nvPr/>
        </p:nvSpPr>
        <p:spPr>
          <a:xfrm rot="5400000">
            <a:off x="1654560" y="2604240"/>
            <a:ext cx="1243080" cy="1800360"/>
          </a:xfrm>
          <a:custGeom>
            <a:avLst/>
            <a:gdLst/>
            <a:ahLst/>
            <a:rect l="l" t="t" r="r" b="b"/>
            <a:pathLst>
              <a:path w="1242120" h="1800645">
                <a:moveTo>
                  <a:pt x="0" y="1392733"/>
                </a:moveTo>
                <a:lnTo>
                  <a:pt x="727634" y="1392733"/>
                </a:lnTo>
                <a:lnTo>
                  <a:pt x="727634" y="444431"/>
                </a:lnTo>
                <a:lnTo>
                  <a:pt x="621060" y="444431"/>
                </a:lnTo>
                <a:lnTo>
                  <a:pt x="931590" y="0"/>
                </a:lnTo>
                <a:lnTo>
                  <a:pt x="1242120" y="444431"/>
                </a:lnTo>
                <a:lnTo>
                  <a:pt x="1135546" y="444431"/>
                </a:lnTo>
                <a:lnTo>
                  <a:pt x="1135546" y="1800645"/>
                </a:lnTo>
                <a:lnTo>
                  <a:pt x="0" y="1800645"/>
                </a:lnTo>
                <a:lnTo>
                  <a:pt x="0" y="1392733"/>
                </a:lnTo>
                <a:close/>
              </a:path>
            </a:pathLst>
          </a:custGeom>
          <a:solidFill>
            <a:srgbClr val="c1dbe5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1066680" y="1420920"/>
            <a:ext cx="2662200" cy="1463400"/>
            <a:chOff x="1066680" y="1420920"/>
            <a:chExt cx="2662200" cy="1463400"/>
          </a:xfrm>
        </p:grpSpPr>
        <p:sp>
          <p:nvSpPr>
            <p:cNvPr id="121" name="Rounded Rectangle 14"/>
            <p:cNvSpPr/>
            <p:nvPr/>
          </p:nvSpPr>
          <p:spPr>
            <a:xfrm>
              <a:off x="1066680" y="1420920"/>
              <a:ext cx="2662200" cy="1463400"/>
            </a:xfrm>
            <a:prstGeom prst="roundRect">
              <a:avLst>
                <a:gd name="adj" fmla="val 16671"/>
              </a:avLst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ounded Rectangle 5"/>
            <p:cNvSpPr/>
            <p:nvPr/>
          </p:nvSpPr>
          <p:spPr>
            <a:xfrm>
              <a:off x="1157400" y="1492200"/>
              <a:ext cx="2480400" cy="13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Quyền thiêng liêng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3728880" y="1560600"/>
            <a:ext cx="19368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Bent-Up Arrow 6"/>
          <p:cNvSpPr/>
          <p:nvPr/>
        </p:nvSpPr>
        <p:spPr>
          <a:xfrm rot="5400000">
            <a:off x="3863520" y="4248000"/>
            <a:ext cx="1241280" cy="1800360"/>
          </a:xfrm>
          <a:custGeom>
            <a:avLst/>
            <a:gdLst/>
            <a:ahLst/>
            <a:rect l="l" t="t" r="r" b="b"/>
            <a:pathLst>
              <a:path w="1242120" h="1800645">
                <a:moveTo>
                  <a:pt x="0" y="1392733"/>
                </a:moveTo>
                <a:lnTo>
                  <a:pt x="727634" y="1392733"/>
                </a:lnTo>
                <a:lnTo>
                  <a:pt x="727634" y="444431"/>
                </a:lnTo>
                <a:lnTo>
                  <a:pt x="621060" y="444431"/>
                </a:lnTo>
                <a:lnTo>
                  <a:pt x="931590" y="0"/>
                </a:lnTo>
                <a:lnTo>
                  <a:pt x="1242120" y="444431"/>
                </a:lnTo>
                <a:lnTo>
                  <a:pt x="1135546" y="444431"/>
                </a:lnTo>
                <a:lnTo>
                  <a:pt x="1135546" y="1800645"/>
                </a:lnTo>
                <a:lnTo>
                  <a:pt x="0" y="1800645"/>
                </a:lnTo>
                <a:lnTo>
                  <a:pt x="0" y="1392733"/>
                </a:lnTo>
                <a:close/>
              </a:path>
            </a:pathLst>
          </a:custGeom>
          <a:solidFill>
            <a:srgbClr val="fdefe9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3274920" y="3063960"/>
            <a:ext cx="2662200" cy="1463760"/>
            <a:chOff x="3274920" y="3063960"/>
            <a:chExt cx="2662200" cy="1463760"/>
          </a:xfrm>
        </p:grpSpPr>
        <p:sp>
          <p:nvSpPr>
            <p:cNvPr id="126" name="Rounded Rectangle 12"/>
            <p:cNvSpPr/>
            <p:nvPr/>
          </p:nvSpPr>
          <p:spPr>
            <a:xfrm>
              <a:off x="3274920" y="3063960"/>
              <a:ext cx="2662200" cy="1463760"/>
            </a:xfrm>
            <a:prstGeom prst="roundRect">
              <a:avLst>
                <a:gd name="adj" fmla="val 16671"/>
              </a:avLst>
            </a:prstGeom>
            <a:solidFill>
              <a:srgbClr val="60e1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ounded Rectangle 9"/>
            <p:cNvSpPr/>
            <p:nvPr/>
          </p:nvSpPr>
          <p:spPr>
            <a:xfrm>
              <a:off x="3365640" y="3135240"/>
              <a:ext cx="248040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Gắn với quyền DT tự quyế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5937120" y="3203640"/>
            <a:ext cx="19368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5481720" y="4708440"/>
            <a:ext cx="2662200" cy="1463760"/>
            <a:chOff x="5481720" y="4708440"/>
            <a:chExt cx="2662200" cy="1463760"/>
          </a:xfrm>
        </p:grpSpPr>
        <p:sp>
          <p:nvSpPr>
            <p:cNvPr id="130" name="Rounded Rectangle 10"/>
            <p:cNvSpPr/>
            <p:nvPr/>
          </p:nvSpPr>
          <p:spPr>
            <a:xfrm>
              <a:off x="5481720" y="4708440"/>
              <a:ext cx="2662200" cy="1463760"/>
            </a:xfrm>
            <a:prstGeom prst="roundRect">
              <a:avLst>
                <a:gd name="adj" fmla="val 16671"/>
              </a:avLst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ounded Rectangle 12"/>
            <p:cNvSpPr/>
            <p:nvPr/>
          </p:nvSpPr>
          <p:spPr>
            <a:xfrm>
              <a:off x="5572440" y="4779720"/>
              <a:ext cx="248040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Tôn trọng quyền DTĐL của các DT khá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2. Về cách mạng giải phóng dân tộ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Diagram 2" descr=""/>
          <p:cNvPicPr/>
          <p:nvPr/>
        </p:nvPicPr>
        <p:blipFill>
          <a:blip r:embed="rId1"/>
          <a:stretch/>
        </p:blipFill>
        <p:spPr>
          <a:xfrm>
            <a:off x="1523880" y="1908000"/>
            <a:ext cx="6096240" cy="405936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1981080" y="1343160"/>
            <a:ext cx="2644920" cy="2547720"/>
            <a:chOff x="1981080" y="1343160"/>
            <a:chExt cx="2644920" cy="2547720"/>
          </a:xfrm>
        </p:grpSpPr>
        <p:sp>
          <p:nvSpPr>
            <p:cNvPr id="135" name="Pie 15"/>
            <p:cNvSpPr/>
            <p:nvPr/>
          </p:nvSpPr>
          <p:spPr>
            <a:xfrm>
              <a:off x="1981080" y="1343160"/>
              <a:ext cx="2644920" cy="2547720"/>
            </a:xfrm>
            <a:custGeom>
              <a:avLst/>
              <a:gdLst/>
              <a:ahLst/>
              <a:rect l="l" t="t" r="r" b="b"/>
              <a:pathLst>
                <a:path w="1759712" h="1759712">
                  <a:moveTo>
                    <a:pt x="0" y="1759712"/>
                  </a:moveTo>
                  <a:cubicBezTo>
                    <a:pt x="0" y="787850"/>
                    <a:pt x="787850" y="0"/>
                    <a:pt x="1759712" y="0"/>
                  </a:cubicBezTo>
                  <a:lnTo>
                    <a:pt x="1759712" y="1759712"/>
                  </a:lnTo>
                  <a:lnTo>
                    <a:pt x="0" y="1759712"/>
                  </a:lnTo>
                  <a:close/>
                </a:path>
              </a:pathLst>
            </a:custGeom>
            <a:solidFill>
              <a:srgbClr val="8064a2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Pie 4"/>
            <p:cNvSpPr/>
            <p:nvPr/>
          </p:nvSpPr>
          <p:spPr>
            <a:xfrm>
              <a:off x="2755800" y="1912680"/>
              <a:ext cx="187020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Phải đi theo con đường CMV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4"/>
          <p:cNvGrpSpPr/>
          <p:nvPr/>
        </p:nvGrpSpPr>
        <p:grpSpPr>
          <a:xfrm>
            <a:off x="4746240" y="1343160"/>
            <a:ext cx="2644920" cy="2547720"/>
            <a:chOff x="4746240" y="1343160"/>
            <a:chExt cx="2644920" cy="2547720"/>
          </a:xfrm>
        </p:grpSpPr>
        <p:sp>
          <p:nvSpPr>
            <p:cNvPr id="138" name="Pie 13"/>
            <p:cNvSpPr/>
            <p:nvPr/>
          </p:nvSpPr>
          <p:spPr>
            <a:xfrm rot="5400000">
              <a:off x="4794840" y="1294200"/>
              <a:ext cx="2547720" cy="2644920"/>
            </a:xfrm>
            <a:custGeom>
              <a:avLst/>
              <a:gdLst/>
              <a:ahLst/>
              <a:rect l="l" t="t" r="r" b="b"/>
              <a:pathLst>
                <a:path w="1759712" h="1759712">
                  <a:moveTo>
                    <a:pt x="0" y="1759712"/>
                  </a:moveTo>
                  <a:cubicBezTo>
                    <a:pt x="0" y="787850"/>
                    <a:pt x="787850" y="0"/>
                    <a:pt x="1759712" y="0"/>
                  </a:cubicBezTo>
                  <a:lnTo>
                    <a:pt x="1759712" y="1759712"/>
                  </a:lnTo>
                  <a:lnTo>
                    <a:pt x="0" y="1759712"/>
                  </a:lnTo>
                  <a:close/>
                </a:path>
              </a:pathLst>
            </a:custGeom>
            <a:solidFill>
              <a:srgbClr val="5f5bae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Pie 6"/>
            <p:cNvSpPr/>
            <p:nvPr/>
          </p:nvSpPr>
          <p:spPr>
            <a:xfrm>
              <a:off x="4746600" y="1716120"/>
              <a:ext cx="195912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Phải tiến hành bằng BLCM của Q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5"/>
          <p:cNvGrpSpPr/>
          <p:nvPr/>
        </p:nvGrpSpPr>
        <p:grpSpPr>
          <a:xfrm>
            <a:off x="4746240" y="4010040"/>
            <a:ext cx="2644920" cy="2548080"/>
            <a:chOff x="4746240" y="4010040"/>
            <a:chExt cx="2644920" cy="2548080"/>
          </a:xfrm>
        </p:grpSpPr>
        <p:sp>
          <p:nvSpPr>
            <p:cNvPr id="141" name="Pie 11"/>
            <p:cNvSpPr/>
            <p:nvPr/>
          </p:nvSpPr>
          <p:spPr>
            <a:xfrm rot="10800000">
              <a:off x="4746240" y="4010040"/>
              <a:ext cx="2644920" cy="2548080"/>
            </a:xfrm>
            <a:custGeom>
              <a:avLst/>
              <a:gdLst/>
              <a:ahLst/>
              <a:rect l="l" t="t" r="r" b="b"/>
              <a:pathLst>
                <a:path w="1759712" h="1759712">
                  <a:moveTo>
                    <a:pt x="0" y="1759712"/>
                  </a:moveTo>
                  <a:cubicBezTo>
                    <a:pt x="0" y="787850"/>
                    <a:pt x="787850" y="0"/>
                    <a:pt x="1759712" y="0"/>
                  </a:cubicBezTo>
                  <a:lnTo>
                    <a:pt x="1759712" y="1759712"/>
                  </a:lnTo>
                  <a:lnTo>
                    <a:pt x="0" y="1759712"/>
                  </a:lnTo>
                  <a:close/>
                </a:path>
              </a:pathLst>
            </a:custGeom>
            <a:solidFill>
              <a:srgbClr val="537aba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ie 8"/>
            <p:cNvSpPr/>
            <p:nvPr/>
          </p:nvSpPr>
          <p:spPr>
            <a:xfrm>
              <a:off x="4952160" y="4010040"/>
              <a:ext cx="1870200" cy="18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Phải chủ động giành thắng lợi trước CMVS ở chính quố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6"/>
          <p:cNvGrpSpPr/>
          <p:nvPr/>
        </p:nvGrpSpPr>
        <p:grpSpPr>
          <a:xfrm>
            <a:off x="1981080" y="4010040"/>
            <a:ext cx="2644920" cy="2548080"/>
            <a:chOff x="1981080" y="4010040"/>
            <a:chExt cx="2644920" cy="2548080"/>
          </a:xfrm>
        </p:grpSpPr>
        <p:sp>
          <p:nvSpPr>
            <p:cNvPr id="144" name="Pie 9"/>
            <p:cNvSpPr/>
            <p:nvPr/>
          </p:nvSpPr>
          <p:spPr>
            <a:xfrm rot="16200000">
              <a:off x="2029320" y="3961440"/>
              <a:ext cx="2548080" cy="2644920"/>
            </a:xfrm>
            <a:custGeom>
              <a:avLst/>
              <a:gdLst/>
              <a:ahLst/>
              <a:rect l="l" t="t" r="r" b="b"/>
              <a:pathLst>
                <a:path w="1759712" h="1759712">
                  <a:moveTo>
                    <a:pt x="0" y="1759712"/>
                  </a:moveTo>
                  <a:cubicBezTo>
                    <a:pt x="0" y="787850"/>
                    <a:pt x="787850" y="0"/>
                    <a:pt x="1759712" y="0"/>
                  </a:cubicBezTo>
                  <a:lnTo>
                    <a:pt x="1759712" y="1759712"/>
                  </a:lnTo>
                  <a:lnTo>
                    <a:pt x="0" y="1759712"/>
                  </a:lnTo>
                  <a:close/>
                </a:path>
              </a:pathLst>
            </a:custGeom>
            <a:solidFill>
              <a:srgbClr val="4bacc6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ie 10"/>
            <p:cNvSpPr/>
            <p:nvPr/>
          </p:nvSpPr>
          <p:spPr>
            <a:xfrm>
              <a:off x="2755800" y="4157640"/>
              <a:ext cx="1870200" cy="18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99720" bIns="997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Phải định hướng đi lên CNXH ngay từ đầ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Circular Arrow 7"/>
          <p:cNvSpPr/>
          <p:nvPr/>
        </p:nvSpPr>
        <p:spPr>
          <a:xfrm>
            <a:off x="4229280" y="3421080"/>
            <a:ext cx="914400" cy="765000"/>
          </a:xfrm>
          <a:custGeom>
            <a:avLst/>
            <a:gdLst/>
            <a:ahLst/>
            <a:rect l="l" t="t" r="r" b="b"/>
            <a:pathLst>
              <a:path w="912895" h="765313">
                <a:moveTo>
                  <a:pt x="47832" y="382657"/>
                </a:moveTo>
                <a:cubicBezTo>
                  <a:pt x="47832" y="213074"/>
                  <a:pt x="202562" y="70269"/>
                  <a:pt x="408063" y="50189"/>
                </a:cubicBezTo>
                <a:cubicBezTo>
                  <a:pt x="596600" y="31766"/>
                  <a:pt x="775783" y="122190"/>
                  <a:pt x="840553" y="268442"/>
                </a:cubicBezTo>
                <a:lnTo>
                  <a:pt x="883093" y="268441"/>
                </a:lnTo>
                <a:lnTo>
                  <a:pt x="817231" y="382656"/>
                </a:lnTo>
                <a:lnTo>
                  <a:pt x="691765" y="268441"/>
                </a:lnTo>
                <a:lnTo>
                  <a:pt x="731405" y="268441"/>
                </a:lnTo>
                <a:cubicBezTo>
                  <a:pt x="668441" y="179918"/>
                  <a:pt x="539633" y="131046"/>
                  <a:pt x="409296" y="146227"/>
                </a:cubicBezTo>
                <a:cubicBezTo>
                  <a:pt x="256431" y="164032"/>
                  <a:pt x="143498" y="264487"/>
                  <a:pt x="143498" y="382657"/>
                </a:cubicBezTo>
                <a:lnTo>
                  <a:pt x="47832" y="382657"/>
                </a:lnTo>
                <a:close/>
              </a:path>
            </a:pathLst>
          </a:custGeom>
          <a:solidFill>
            <a:srgbClr val="d8d3e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ircular Arrow 8"/>
          <p:cNvSpPr/>
          <p:nvPr/>
        </p:nvSpPr>
        <p:spPr>
          <a:xfrm rot="10800000">
            <a:off x="4229280" y="3714480"/>
            <a:ext cx="914400" cy="765000"/>
          </a:xfrm>
          <a:custGeom>
            <a:avLst/>
            <a:gdLst/>
            <a:ahLst/>
            <a:rect l="l" t="t" r="r" b="b"/>
            <a:pathLst>
              <a:path w="912895" h="765313">
                <a:moveTo>
                  <a:pt x="47832" y="382657"/>
                </a:moveTo>
                <a:cubicBezTo>
                  <a:pt x="47832" y="213074"/>
                  <a:pt x="202562" y="70269"/>
                  <a:pt x="408063" y="50189"/>
                </a:cubicBezTo>
                <a:cubicBezTo>
                  <a:pt x="596600" y="31766"/>
                  <a:pt x="775783" y="122190"/>
                  <a:pt x="840553" y="268442"/>
                </a:cubicBezTo>
                <a:lnTo>
                  <a:pt x="883093" y="268441"/>
                </a:lnTo>
                <a:lnTo>
                  <a:pt x="817231" y="382656"/>
                </a:lnTo>
                <a:lnTo>
                  <a:pt x="691765" y="268441"/>
                </a:lnTo>
                <a:lnTo>
                  <a:pt x="731405" y="268441"/>
                </a:lnTo>
                <a:cubicBezTo>
                  <a:pt x="668441" y="179918"/>
                  <a:pt x="539633" y="131046"/>
                  <a:pt x="409296" y="146227"/>
                </a:cubicBezTo>
                <a:cubicBezTo>
                  <a:pt x="256431" y="164032"/>
                  <a:pt x="143498" y="264487"/>
                  <a:pt x="143498" y="382657"/>
                </a:cubicBezTo>
                <a:lnTo>
                  <a:pt x="47832" y="382657"/>
                </a:lnTo>
                <a:close/>
              </a:path>
            </a:pathLst>
          </a:custGeom>
          <a:solidFill>
            <a:srgbClr val="d8d3e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1. Về chủ nghĩa xã hộ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Isosceles Triangle 3"/>
          <p:cNvSpPr/>
          <p:nvPr/>
        </p:nvSpPr>
        <p:spPr>
          <a:xfrm>
            <a:off x="250920" y="1371600"/>
            <a:ext cx="4473360" cy="4952880"/>
          </a:xfrm>
          <a:prstGeom prst="triangle">
            <a:avLst>
              <a:gd name="adj" fmla="val 50000"/>
            </a:avLst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282760" y="2057400"/>
            <a:ext cx="6251760" cy="961920"/>
            <a:chOff x="2282760" y="2057400"/>
            <a:chExt cx="6251760" cy="961920"/>
          </a:xfrm>
        </p:grpSpPr>
        <p:sp>
          <p:nvSpPr>
            <p:cNvPr id="151" name="Rounded Rectangle 11"/>
            <p:cNvSpPr/>
            <p:nvPr/>
          </p:nvSpPr>
          <p:spPr>
            <a:xfrm>
              <a:off x="2282760" y="2057400"/>
              <a:ext cx="625176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ounded Rectangle 5"/>
            <p:cNvSpPr/>
            <p:nvPr/>
          </p:nvSpPr>
          <p:spPr>
            <a:xfrm>
              <a:off x="2393640" y="2104200"/>
              <a:ext cx="60296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Xã hội của tương la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5"/>
          <p:cNvGrpSpPr/>
          <p:nvPr/>
        </p:nvGrpSpPr>
        <p:grpSpPr>
          <a:xfrm>
            <a:off x="2282760" y="3444840"/>
            <a:ext cx="6251760" cy="961920"/>
            <a:chOff x="2282760" y="3444840"/>
            <a:chExt cx="6251760" cy="961920"/>
          </a:xfrm>
        </p:grpSpPr>
        <p:sp>
          <p:nvSpPr>
            <p:cNvPr id="154" name="Rounded Rectangle 9"/>
            <p:cNvSpPr/>
            <p:nvPr/>
          </p:nvSpPr>
          <p:spPr>
            <a:xfrm>
              <a:off x="2282760" y="3444840"/>
              <a:ext cx="625176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0e1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ounded Rectangle 7"/>
            <p:cNvSpPr/>
            <p:nvPr/>
          </p:nvSpPr>
          <p:spPr>
            <a:xfrm>
              <a:off x="2393640" y="3491640"/>
              <a:ext cx="60296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Những đặc trưng cơ bả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2282760" y="4834080"/>
            <a:ext cx="6251760" cy="961920"/>
            <a:chOff x="2282760" y="4834080"/>
            <a:chExt cx="6251760" cy="961920"/>
          </a:xfrm>
        </p:grpSpPr>
        <p:sp>
          <p:nvSpPr>
            <p:cNvPr id="157" name="Rounded Rectangle 7"/>
            <p:cNvSpPr/>
            <p:nvPr/>
          </p:nvSpPr>
          <p:spPr>
            <a:xfrm>
              <a:off x="2282760" y="4834080"/>
              <a:ext cx="625176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ounded Rectangle 9"/>
            <p:cNvSpPr/>
            <p:nvPr/>
          </p:nvSpPr>
          <p:spPr>
            <a:xfrm>
              <a:off x="2393640" y="4880880"/>
              <a:ext cx="60296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Hình thái KT - X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2. Về cách mạng XHC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Diamond 5"/>
          <p:cNvSpPr/>
          <p:nvPr/>
        </p:nvSpPr>
        <p:spPr>
          <a:xfrm>
            <a:off x="2143080" y="1362240"/>
            <a:ext cx="4851360" cy="5232240"/>
          </a:xfrm>
          <a:prstGeom prst="diamond">
            <a:avLst/>
          </a:prstGeom>
          <a:solidFill>
            <a:srgbClr val="d0e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2603520" y="1860480"/>
            <a:ext cx="1892160" cy="2040120"/>
            <a:chOff x="2603520" y="1860480"/>
            <a:chExt cx="1892160" cy="2040120"/>
          </a:xfrm>
        </p:grpSpPr>
        <p:sp>
          <p:nvSpPr>
            <p:cNvPr id="162" name="Rounded Rectangle 16"/>
            <p:cNvSpPr/>
            <p:nvPr/>
          </p:nvSpPr>
          <p:spPr>
            <a:xfrm>
              <a:off x="2603520" y="1860480"/>
              <a:ext cx="1892160" cy="2040120"/>
            </a:xfrm>
            <a:custGeom>
              <a:avLst/>
              <a:gdLst>
                <a:gd name="textAreaLeft" fmla="*/ 92160 w 1892160"/>
                <a:gd name="textAreaRight" fmla="*/ 1800000 w 1892160"/>
                <a:gd name="textAreaTop" fmla="*/ 92160 h 2040120"/>
                <a:gd name="textAreaBottom" fmla="*/ 1947960 h 2040120"/>
              </a:gdLst>
              <a:ahLst/>
              <a:rect l="textAreaLeft" t="textAreaTop" r="textAreaRight" b="textAreaBottom"/>
              <a:pathLst>
                <a:path w="21600" h="23289">
                  <a:moveTo>
                    <a:pt x="3600" y="0"/>
                  </a:moveTo>
                  <a:arcTo wR="3600" hR="3600" stAng="16200000" swAng="-5400000"/>
                  <a:lnTo>
                    <a:pt x="0" y="19689"/>
                  </a:lnTo>
                  <a:arcTo wR="3600" hR="3600" stAng="10800000" swAng="-5400000"/>
                  <a:lnTo>
                    <a:pt x="18000" y="232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ounded Rectangle 5"/>
            <p:cNvSpPr/>
            <p:nvPr/>
          </p:nvSpPr>
          <p:spPr>
            <a:xfrm>
              <a:off x="2695680" y="1959840"/>
              <a:ext cx="1707480" cy="18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Tính tất yếu lịch s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4640400" y="1860480"/>
            <a:ext cx="1892160" cy="2040120"/>
            <a:chOff x="4640400" y="1860480"/>
            <a:chExt cx="1892160" cy="2040120"/>
          </a:xfrm>
        </p:grpSpPr>
        <p:sp>
          <p:nvSpPr>
            <p:cNvPr id="165" name="Rounded Rectangle 14"/>
            <p:cNvSpPr/>
            <p:nvPr/>
          </p:nvSpPr>
          <p:spPr>
            <a:xfrm>
              <a:off x="4640400" y="1860480"/>
              <a:ext cx="1892160" cy="2040120"/>
            </a:xfrm>
            <a:custGeom>
              <a:avLst/>
              <a:gdLst>
                <a:gd name="textAreaLeft" fmla="*/ 92160 w 1892160"/>
                <a:gd name="textAreaRight" fmla="*/ 1800000 w 1892160"/>
                <a:gd name="textAreaTop" fmla="*/ 92160 h 2040120"/>
                <a:gd name="textAreaBottom" fmla="*/ 1947960 h 2040120"/>
              </a:gdLst>
              <a:ahLst/>
              <a:rect l="textAreaLeft" t="textAreaTop" r="textAreaRight" b="textAreaBottom"/>
              <a:pathLst>
                <a:path w="21600" h="23289">
                  <a:moveTo>
                    <a:pt x="3600" y="0"/>
                  </a:moveTo>
                  <a:arcTo wR="3600" hR="3600" stAng="16200000" swAng="-5400000"/>
                  <a:lnTo>
                    <a:pt x="0" y="19689"/>
                  </a:lnTo>
                  <a:arcTo wR="3600" hR="3600" stAng="10800000" swAng="-5400000"/>
                  <a:lnTo>
                    <a:pt x="18000" y="232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d8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ounded Rectangle 7"/>
            <p:cNvSpPr/>
            <p:nvPr/>
          </p:nvSpPr>
          <p:spPr>
            <a:xfrm>
              <a:off x="4732560" y="1959840"/>
              <a:ext cx="1707480" cy="18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Sự nghiệp CM của toàn dâ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8"/>
          <p:cNvGrpSpPr/>
          <p:nvPr/>
        </p:nvGrpSpPr>
        <p:grpSpPr>
          <a:xfrm>
            <a:off x="2603520" y="4057560"/>
            <a:ext cx="1892160" cy="2040120"/>
            <a:chOff x="2603520" y="4057560"/>
            <a:chExt cx="1892160" cy="2040120"/>
          </a:xfrm>
        </p:grpSpPr>
        <p:sp>
          <p:nvSpPr>
            <p:cNvPr id="168" name="Rounded Rectangle 12"/>
            <p:cNvSpPr/>
            <p:nvPr/>
          </p:nvSpPr>
          <p:spPr>
            <a:xfrm>
              <a:off x="2603520" y="4057560"/>
              <a:ext cx="1892160" cy="2040120"/>
            </a:xfrm>
            <a:custGeom>
              <a:avLst/>
              <a:gdLst>
                <a:gd name="textAreaLeft" fmla="*/ 92160 w 1892160"/>
                <a:gd name="textAreaRight" fmla="*/ 1800000 w 1892160"/>
                <a:gd name="textAreaTop" fmla="*/ 92160 h 2040120"/>
                <a:gd name="textAreaBottom" fmla="*/ 1947960 h 2040120"/>
              </a:gdLst>
              <a:ahLst/>
              <a:rect l="textAreaLeft" t="textAreaTop" r="textAreaRight" b="textAreaBottom"/>
              <a:pathLst>
                <a:path w="21600" h="23289">
                  <a:moveTo>
                    <a:pt x="3600" y="0"/>
                  </a:moveTo>
                  <a:arcTo wR="3600" hR="3600" stAng="16200000" swAng="-5400000"/>
                  <a:lnTo>
                    <a:pt x="0" y="19689"/>
                  </a:lnTo>
                  <a:arcTo wR="3600" hR="3600" stAng="10800000" swAng="-5400000"/>
                  <a:lnTo>
                    <a:pt x="18000" y="232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ce9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ounded Rectangle 9"/>
            <p:cNvSpPr/>
            <p:nvPr/>
          </p:nvSpPr>
          <p:spPr>
            <a:xfrm>
              <a:off x="2695680" y="4156920"/>
              <a:ext cx="1707480" cy="18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Thường xuyên chăm lo xây dựng, chỉnh đốn Đảng cầm quyề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Group 9" descr=""/>
          <p:cNvPicPr/>
          <p:nvPr/>
        </p:nvPicPr>
        <p:blipFill>
          <a:blip r:embed="rId1"/>
          <a:stretch/>
        </p:blipFill>
        <p:spPr>
          <a:xfrm>
            <a:off x="4627440" y="4048200"/>
            <a:ext cx="1919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304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Về mối quan hệ giữa ĐLDT và CNX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3"/>
          <p:cNvSpPr/>
          <p:nvPr/>
        </p:nvSpPr>
        <p:spPr>
          <a:xfrm>
            <a:off x="3227400" y="4014720"/>
            <a:ext cx="193680" cy="154080"/>
          </a:xfrm>
          <a:prstGeom prst="ellipse">
            <a:avLst/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3056040" y="4230720"/>
            <a:ext cx="195120" cy="154080"/>
          </a:xfrm>
          <a:prstGeom prst="ellipse">
            <a:avLst/>
          </a:prstGeom>
          <a:solidFill>
            <a:srgbClr val="4accc0"/>
          </a:solidFill>
          <a:ln w="25560">
            <a:solidFill>
              <a:srgbClr val="4ac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2852640" y="4416480"/>
            <a:ext cx="195480" cy="154080"/>
          </a:xfrm>
          <a:prstGeom prst="ellipse">
            <a:avLst/>
          </a:prstGeom>
          <a:solidFill>
            <a:srgbClr val="48d29b"/>
          </a:solidFill>
          <a:ln w="25560">
            <a:solidFill>
              <a:srgbClr val="48d2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3095640" y="1844640"/>
            <a:ext cx="195120" cy="154080"/>
          </a:xfrm>
          <a:prstGeom prst="ellipse">
            <a:avLst/>
          </a:prstGeom>
          <a:solidFill>
            <a:srgbClr val="47d872"/>
          </a:solidFill>
          <a:ln w="25560">
            <a:solidFill>
              <a:srgbClr val="47d8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355920" y="1722600"/>
            <a:ext cx="195480" cy="153720"/>
          </a:xfrm>
          <a:prstGeom prst="ellipse">
            <a:avLst/>
          </a:prstGeom>
          <a:solidFill>
            <a:srgbClr val="49de47"/>
          </a:solidFill>
          <a:ln w="25560">
            <a:solidFill>
              <a:srgbClr val="49d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614760" y="1600200"/>
            <a:ext cx="195120" cy="154080"/>
          </a:xfrm>
          <a:prstGeom prst="ellipse">
            <a:avLst/>
          </a:prstGeom>
          <a:solidFill>
            <a:srgbClr val="79e346"/>
          </a:solidFill>
          <a:ln w="25560">
            <a:solidFill>
              <a:srgbClr val="79e3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3873600" y="1722600"/>
            <a:ext cx="195120" cy="153720"/>
          </a:xfrm>
          <a:prstGeom prst="ellipse">
            <a:avLst/>
          </a:prstGeom>
          <a:solidFill>
            <a:srgbClr val="ace946"/>
          </a:solidFill>
          <a:ln w="25560">
            <a:solidFill>
              <a:srgbClr val="ace9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4133880" y="1844640"/>
            <a:ext cx="195120" cy="154080"/>
          </a:xfrm>
          <a:prstGeom prst="ellipse">
            <a:avLst/>
          </a:prstGeom>
          <a:solidFill>
            <a:srgbClr val="e3ee46"/>
          </a:solidFill>
          <a:ln w="25560">
            <a:solidFill>
              <a:srgbClr val="e3e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3614760" y="1859040"/>
            <a:ext cx="195120" cy="152280"/>
          </a:xfrm>
          <a:prstGeom prst="ellipse">
            <a:avLst/>
          </a:prstGeom>
          <a:solidFill>
            <a:srgbClr val="f2c946"/>
          </a:solidFill>
          <a:ln w="25560">
            <a:solidFill>
              <a:srgbClr val="f2c9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3614760" y="2116080"/>
            <a:ext cx="195120" cy="15408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3"/>
          <p:cNvGrpSpPr/>
          <p:nvPr/>
        </p:nvGrpSpPr>
        <p:grpSpPr>
          <a:xfrm>
            <a:off x="2031840" y="4978440"/>
            <a:ext cx="4195800" cy="887400"/>
            <a:chOff x="2031840" y="4978440"/>
            <a:chExt cx="4195800" cy="887400"/>
          </a:xfrm>
        </p:grpSpPr>
        <p:sp>
          <p:nvSpPr>
            <p:cNvPr id="183" name="Rounded Rectangle 19"/>
            <p:cNvSpPr/>
            <p:nvPr/>
          </p:nvSpPr>
          <p:spPr>
            <a:xfrm>
              <a:off x="2031840" y="4978440"/>
              <a:ext cx="4195800" cy="887400"/>
            </a:xfrm>
            <a:prstGeom prst="roundRect">
              <a:avLst>
                <a:gd name="adj" fmla="val 16667"/>
              </a:avLst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ounded Rectangle 14"/>
            <p:cNvSpPr/>
            <p:nvPr/>
          </p:nvSpPr>
          <p:spPr>
            <a:xfrm>
              <a:off x="2086560" y="5021640"/>
              <a:ext cx="408600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4560" rIns="68760" tIns="68760" bIns="687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Mối quan hệ biện chứng giữa ĐLDT với CNX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Oval 14"/>
          <p:cNvSpPr/>
          <p:nvPr/>
        </p:nvSpPr>
        <p:spPr>
          <a:xfrm>
            <a:off x="870120" y="4106880"/>
            <a:ext cx="1944360" cy="1536840"/>
          </a:xfrm>
          <a:prstGeom prst="ellipse">
            <a:avLst/>
          </a:prstGeom>
          <a:solidFill>
            <a:srgbClr val="c1db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5"/>
          <p:cNvGrpSpPr/>
          <p:nvPr/>
        </p:nvGrpSpPr>
        <p:grpSpPr>
          <a:xfrm>
            <a:off x="3805200" y="3240000"/>
            <a:ext cx="4195800" cy="889200"/>
            <a:chOff x="3805200" y="3240000"/>
            <a:chExt cx="4195800" cy="889200"/>
          </a:xfrm>
        </p:grpSpPr>
        <p:sp>
          <p:nvSpPr>
            <p:cNvPr id="187" name="Rounded Rectangle 17"/>
            <p:cNvSpPr/>
            <p:nvPr/>
          </p:nvSpPr>
          <p:spPr>
            <a:xfrm>
              <a:off x="3805200" y="3240000"/>
              <a:ext cx="4195800" cy="88920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ounded Rectangle 17"/>
            <p:cNvSpPr/>
            <p:nvPr/>
          </p:nvSpPr>
          <p:spPr>
            <a:xfrm>
              <a:off x="3859920" y="3283200"/>
              <a:ext cx="408600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4560" rIns="68760" tIns="68760" bIns="687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Điều kiện đảm bảo kết hợp giữa ĐLDT với CNX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16"/>
          <p:cNvSpPr/>
          <p:nvPr/>
        </p:nvSpPr>
        <p:spPr>
          <a:xfrm>
            <a:off x="2643120" y="2370240"/>
            <a:ext cx="1944720" cy="1535040"/>
          </a:xfrm>
          <a:prstGeom prst="ellipse">
            <a:avLst/>
          </a:prstGeom>
          <a:solidFill>
            <a:srgbClr val="fbd3c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06:53:31Z</dcterms:created>
  <dc:creator>tu</dc:creator>
  <dc:description/>
  <dc:language>en-US</dc:language>
  <cp:lastModifiedBy>PC-XDD-03</cp:lastModifiedBy>
  <dcterms:modified xsi:type="dcterms:W3CDTF">2013-01-14T08:30:47Z</dcterms:modified>
  <cp:revision>36</cp:revision>
  <dc:subject/>
  <dc:title>BÀI 2 TƯ TƯỞNG HỒ CHÍ MINH VỀ ĐỘC LẬP DÂN TỘC GẮN LIỀN VỚI CHỦ NGHĨA XÃ HỘI</dc:title>
</cp:coreProperties>
</file>